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3D10-0009-4096-8EDA-AAC13F167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C9EB-C4EA-4C2E-A6EA-2B859382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A1E5-36FF-4A2E-A4E1-9688A843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E5FC-522F-418E-A87A-5567C8C6A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67E8-E5E9-49C3-AC3E-C54AA621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AC55-65C2-46F8-A129-5A645BB3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C133-7755-4386-A271-A09F1903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B344-5FBD-47B0-AAF2-095895A2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79E2-C32A-4D32-A275-6F98EED4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CC20-7D09-437A-B73D-673672EC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A910-BEEA-40CC-AAC8-9B8DD63C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76BC-E25A-4CF5-A8DD-C1F93BCA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1BCA-312C-435D-B4C3-4C8F57772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99"/>
              </a:buClr>
              <a:buSzPct val="11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Times New Roman"/>
              </a:rPr>
              <a:t>Opener:</a:t>
            </a:r>
            <a:r>
              <a:rPr b="1" lang="en-US" sz="2600" spc="-1" strike="noStrike">
                <a:solidFill>
                  <a:srgbClr val="3399ff"/>
                </a:solidFill>
                <a:latin typeface="Times New Roman"/>
              </a:rPr>
              <a:t>  Solve the following expressions using the order of oper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1.)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6 x 8 + 3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2.)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4 x 7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                                                            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3.)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 + 4 – 7 x 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4.)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+ 9 x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65200" y="2419200"/>
            <a:ext cx="1035000" cy="331920"/>
          </a:xfrm>
          <a:custGeom>
            <a:avLst/>
            <a:gdLst/>
            <a:ahLst/>
            <a:rect l="l" t="t" r="r" b="b"/>
            <a:pathLst>
              <a:path w="2878" h="919">
                <a:moveTo>
                  <a:pt x="4068" y="6722"/>
                </a:moveTo>
                <a:cubicBezTo>
                  <a:pt x="4086" y="6787"/>
                  <a:pt x="4070" y="6946"/>
                  <a:pt x="4118" y="6995"/>
                </a:cubicBezTo>
                <a:cubicBezTo>
                  <a:pt x="4228" y="7106"/>
                  <a:pt x="4516" y="7012"/>
                  <a:pt x="4638" y="6995"/>
                </a:cubicBezTo>
                <a:cubicBezTo>
                  <a:pt x="4790" y="6974"/>
                  <a:pt x="4932" y="6970"/>
                  <a:pt x="5085" y="6970"/>
                </a:cubicBezTo>
                <a:cubicBezTo>
                  <a:pt x="5156" y="6970"/>
                  <a:pt x="5195" y="6984"/>
                  <a:pt x="5259" y="6995"/>
                </a:cubicBezTo>
                <a:cubicBezTo>
                  <a:pt x="5275" y="6995"/>
                  <a:pt x="5292" y="6995"/>
                  <a:pt x="5308" y="6995"/>
                </a:cubicBezTo>
                <a:cubicBezTo>
                  <a:pt x="5342" y="6906"/>
                  <a:pt x="5330" y="6805"/>
                  <a:pt x="5358" y="6722"/>
                </a:cubicBezTo>
              </a:path>
              <a:path w="2878" h="919">
                <a:moveTo>
                  <a:pt x="4589" y="7144"/>
                </a:moveTo>
                <a:cubicBezTo>
                  <a:pt x="4583" y="7245"/>
                  <a:pt x="4569" y="7320"/>
                  <a:pt x="4539" y="7417"/>
                </a:cubicBezTo>
                <a:cubicBezTo>
                  <a:pt x="4636" y="7356"/>
                  <a:pt x="4701" y="7342"/>
                  <a:pt x="4812" y="7342"/>
                </a:cubicBezTo>
                <a:cubicBezTo>
                  <a:pt x="4862" y="7342"/>
                  <a:pt x="4878" y="7342"/>
                  <a:pt x="4911" y="7342"/>
                </a:cubicBezTo>
              </a:path>
              <a:path w="2878" h="919">
                <a:moveTo>
                  <a:pt x="4961" y="7045"/>
                </a:moveTo>
                <a:cubicBezTo>
                  <a:pt x="4926" y="7218"/>
                  <a:pt x="4959" y="7390"/>
                  <a:pt x="4936" y="7565"/>
                </a:cubicBezTo>
                <a:cubicBezTo>
                  <a:pt x="4928" y="7590"/>
                  <a:pt x="4919" y="7615"/>
                  <a:pt x="4911" y="7640"/>
                </a:cubicBezTo>
              </a:path>
              <a:path w="2878" h="919">
                <a:moveTo>
                  <a:pt x="5184" y="7293"/>
                </a:moveTo>
                <a:cubicBezTo>
                  <a:pt x="5247" y="7387"/>
                  <a:pt x="5298" y="7439"/>
                  <a:pt x="5383" y="7516"/>
                </a:cubicBezTo>
              </a:path>
              <a:path w="2878" h="919">
                <a:moveTo>
                  <a:pt x="5407" y="7218"/>
                </a:moveTo>
                <a:cubicBezTo>
                  <a:pt x="5350" y="7326"/>
                  <a:pt x="5291" y="7433"/>
                  <a:pt x="5234" y="7541"/>
                </a:cubicBezTo>
              </a:path>
              <a:path w="2878" h="919">
                <a:moveTo>
                  <a:pt x="5953" y="7094"/>
                </a:moveTo>
                <a:cubicBezTo>
                  <a:pt x="5782" y="7094"/>
                  <a:pt x="5750" y="7119"/>
                  <a:pt x="5631" y="7243"/>
                </a:cubicBezTo>
                <a:cubicBezTo>
                  <a:pt x="5614" y="7260"/>
                  <a:pt x="5598" y="7276"/>
                  <a:pt x="5581" y="7293"/>
                </a:cubicBezTo>
                <a:cubicBezTo>
                  <a:pt x="5666" y="7360"/>
                  <a:pt x="5879" y="7388"/>
                  <a:pt x="5904" y="7491"/>
                </a:cubicBezTo>
                <a:cubicBezTo>
                  <a:pt x="5931" y="7604"/>
                  <a:pt x="5804" y="7596"/>
                  <a:pt x="5755" y="7590"/>
                </a:cubicBezTo>
                <a:cubicBezTo>
                  <a:pt x="5743" y="7421"/>
                  <a:pt x="5800" y="7231"/>
                  <a:pt x="5879" y="7069"/>
                </a:cubicBezTo>
                <a:cubicBezTo>
                  <a:pt x="5887" y="7061"/>
                  <a:pt x="5896" y="7053"/>
                  <a:pt x="5904" y="7045"/>
                </a:cubicBezTo>
              </a:path>
              <a:path w="2878" h="919">
                <a:moveTo>
                  <a:pt x="6300" y="7119"/>
                </a:moveTo>
                <a:cubicBezTo>
                  <a:pt x="6309" y="7244"/>
                  <a:pt x="6336" y="7347"/>
                  <a:pt x="6300" y="7466"/>
                </a:cubicBezTo>
              </a:path>
              <a:path w="2878" h="919">
                <a:moveTo>
                  <a:pt x="6127" y="7342"/>
                </a:moveTo>
                <a:cubicBezTo>
                  <a:pt x="6259" y="7317"/>
                  <a:pt x="6392" y="7293"/>
                  <a:pt x="6524" y="7268"/>
                </a:cubicBezTo>
              </a:path>
              <a:path w="2878" h="919">
                <a:moveTo>
                  <a:pt x="6722" y="7069"/>
                </a:moveTo>
                <a:cubicBezTo>
                  <a:pt x="6800" y="7026"/>
                  <a:pt x="6818" y="7011"/>
                  <a:pt x="6896" y="7020"/>
                </a:cubicBezTo>
                <a:cubicBezTo>
                  <a:pt x="6879" y="7138"/>
                  <a:pt x="6857" y="7146"/>
                  <a:pt x="6772" y="7218"/>
                </a:cubicBezTo>
                <a:cubicBezTo>
                  <a:pt x="6892" y="7210"/>
                  <a:pt x="7031" y="7250"/>
                  <a:pt x="6896" y="7417"/>
                </a:cubicBezTo>
                <a:cubicBezTo>
                  <a:pt x="6818" y="7468"/>
                  <a:pt x="6790" y="7484"/>
                  <a:pt x="6722" y="74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19760" y="1751040"/>
            <a:ext cx="393480" cy="446040"/>
          </a:xfrm>
          <a:custGeom>
            <a:avLst/>
            <a:gdLst/>
            <a:ahLst/>
            <a:rect l="l" t="t" r="r" b="b"/>
            <a:pathLst>
              <a:path w="1093" h="1241">
                <a:moveTo>
                  <a:pt x="13742" y="5978"/>
                </a:moveTo>
                <a:cubicBezTo>
                  <a:pt x="13720" y="5908"/>
                  <a:pt x="13702" y="5839"/>
                  <a:pt x="13667" y="5779"/>
                </a:cubicBezTo>
                <a:cubicBezTo>
                  <a:pt x="13848" y="5809"/>
                  <a:pt x="14031" y="5816"/>
                  <a:pt x="14213" y="5854"/>
                </a:cubicBezTo>
                <a:cubicBezTo>
                  <a:pt x="14308" y="5874"/>
                  <a:pt x="14390" y="5879"/>
                  <a:pt x="14486" y="5879"/>
                </a:cubicBezTo>
                <a:cubicBezTo>
                  <a:pt x="14550" y="5879"/>
                  <a:pt x="14594" y="5904"/>
                  <a:pt x="14660" y="5904"/>
                </a:cubicBezTo>
                <a:cubicBezTo>
                  <a:pt x="14660" y="6013"/>
                  <a:pt x="14655" y="6039"/>
                  <a:pt x="14684" y="6102"/>
                </a:cubicBezTo>
              </a:path>
              <a:path w="1093" h="1241">
                <a:moveTo>
                  <a:pt x="13965" y="4911"/>
                </a:moveTo>
                <a:cubicBezTo>
                  <a:pt x="14088" y="4790"/>
                  <a:pt x="14225" y="4987"/>
                  <a:pt x="14213" y="5135"/>
                </a:cubicBezTo>
                <a:cubicBezTo>
                  <a:pt x="14189" y="5432"/>
                  <a:pt x="13865" y="5477"/>
                  <a:pt x="13692" y="5358"/>
                </a:cubicBezTo>
                <a:cubicBezTo>
                  <a:pt x="13850" y="5271"/>
                  <a:pt x="14005" y="5302"/>
                  <a:pt x="14163" y="5407"/>
                </a:cubicBezTo>
                <a:cubicBezTo>
                  <a:pt x="14180" y="5424"/>
                  <a:pt x="14196" y="5440"/>
                  <a:pt x="14213" y="5457"/>
                </a:cubicBezTo>
              </a:path>
              <a:path w="1093" h="1241">
                <a:moveTo>
                  <a:pt x="14734" y="4887"/>
                </a:moveTo>
                <a:cubicBezTo>
                  <a:pt x="14691" y="4908"/>
                  <a:pt x="14369" y="5067"/>
                  <a:pt x="14461" y="5159"/>
                </a:cubicBezTo>
                <a:cubicBezTo>
                  <a:pt x="14560" y="5258"/>
                  <a:pt x="14667" y="5257"/>
                  <a:pt x="14759" y="5383"/>
                </a:cubicBezTo>
                <a:cubicBezTo>
                  <a:pt x="14679" y="5488"/>
                  <a:pt x="14646" y="5521"/>
                  <a:pt x="14536" y="5482"/>
                </a:cubicBezTo>
                <a:cubicBezTo>
                  <a:pt x="14490" y="5278"/>
                  <a:pt x="14569" y="5205"/>
                  <a:pt x="14660" y="50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62720" y="2438280"/>
            <a:ext cx="125280" cy="79560"/>
          </a:xfrm>
          <a:custGeom>
            <a:avLst/>
            <a:gdLst/>
            <a:ahLst/>
            <a:rect l="l" t="t" r="r" b="b"/>
            <a:pathLst>
              <a:path w="349" h="224">
                <a:moveTo>
                  <a:pt x="15453" y="6772"/>
                </a:moveTo>
                <a:cubicBezTo>
                  <a:pt x="15552" y="6796"/>
                  <a:pt x="15584" y="6804"/>
                  <a:pt x="15652" y="6796"/>
                </a:cubicBezTo>
              </a:path>
              <a:path w="349" h="224">
                <a:moveTo>
                  <a:pt x="15553" y="6995"/>
                </a:moveTo>
                <a:cubicBezTo>
                  <a:pt x="15676" y="6970"/>
                  <a:pt x="15717" y="6962"/>
                  <a:pt x="15801" y="69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83200" y="2143080"/>
            <a:ext cx="401760" cy="544680"/>
          </a:xfrm>
          <a:custGeom>
            <a:avLst/>
            <a:gdLst/>
            <a:ahLst/>
            <a:rect l="l" t="t" r="r" b="b"/>
            <a:pathLst>
              <a:path w="1117" h="1514">
                <a:moveTo>
                  <a:pt x="16818" y="6176"/>
                </a:moveTo>
                <a:cubicBezTo>
                  <a:pt x="16818" y="6108"/>
                  <a:pt x="16831" y="6079"/>
                  <a:pt x="16892" y="6052"/>
                </a:cubicBezTo>
                <a:cubicBezTo>
                  <a:pt x="17111" y="6184"/>
                  <a:pt x="17119" y="6407"/>
                  <a:pt x="16867" y="6573"/>
                </a:cubicBezTo>
                <a:cubicBezTo>
                  <a:pt x="16723" y="6615"/>
                  <a:pt x="16690" y="6648"/>
                  <a:pt x="16619" y="6573"/>
                </a:cubicBezTo>
                <a:cubicBezTo>
                  <a:pt x="16746" y="6399"/>
                  <a:pt x="16882" y="6459"/>
                  <a:pt x="17066" y="6573"/>
                </a:cubicBezTo>
                <a:cubicBezTo>
                  <a:pt x="17082" y="6590"/>
                  <a:pt x="17099" y="6606"/>
                  <a:pt x="17115" y="6623"/>
                </a:cubicBezTo>
              </a:path>
              <a:path w="1117" h="1514">
                <a:moveTo>
                  <a:pt x="17562" y="5953"/>
                </a:moveTo>
                <a:cubicBezTo>
                  <a:pt x="17393" y="6034"/>
                  <a:pt x="17209" y="6121"/>
                  <a:pt x="17413" y="6300"/>
                </a:cubicBezTo>
                <a:cubicBezTo>
                  <a:pt x="17546" y="6417"/>
                  <a:pt x="17602" y="6386"/>
                  <a:pt x="17587" y="6548"/>
                </a:cubicBezTo>
                <a:cubicBezTo>
                  <a:pt x="17306" y="6534"/>
                  <a:pt x="17332" y="6411"/>
                  <a:pt x="17512" y="6201"/>
                </a:cubicBezTo>
                <a:cubicBezTo>
                  <a:pt x="17615" y="6080"/>
                  <a:pt x="17695" y="6078"/>
                  <a:pt x="17611" y="5978"/>
                </a:cubicBezTo>
              </a:path>
              <a:path w="1117" h="1514">
                <a:moveTo>
                  <a:pt x="16718" y="6648"/>
                </a:moveTo>
                <a:cubicBezTo>
                  <a:pt x="17057" y="6578"/>
                  <a:pt x="17342" y="6547"/>
                  <a:pt x="17686" y="6573"/>
                </a:cubicBezTo>
                <a:cubicBezTo>
                  <a:pt x="17702" y="6573"/>
                  <a:pt x="17719" y="6573"/>
                  <a:pt x="17735" y="6573"/>
                </a:cubicBezTo>
              </a:path>
              <a:path w="1117" h="1514">
                <a:moveTo>
                  <a:pt x="17041" y="6970"/>
                </a:moveTo>
                <a:cubicBezTo>
                  <a:pt x="17061" y="6873"/>
                  <a:pt x="17125" y="6854"/>
                  <a:pt x="17214" y="6821"/>
                </a:cubicBezTo>
                <a:cubicBezTo>
                  <a:pt x="17350" y="6770"/>
                  <a:pt x="17463" y="6821"/>
                  <a:pt x="17363" y="6970"/>
                </a:cubicBezTo>
                <a:cubicBezTo>
                  <a:pt x="17291" y="7077"/>
                  <a:pt x="17148" y="7115"/>
                  <a:pt x="17066" y="7193"/>
                </a:cubicBezTo>
                <a:cubicBezTo>
                  <a:pt x="16988" y="7267"/>
                  <a:pt x="16959" y="7440"/>
                  <a:pt x="16842" y="7466"/>
                </a:cubicBezTo>
                <a:cubicBezTo>
                  <a:pt x="16842" y="7458"/>
                  <a:pt x="16842" y="7449"/>
                  <a:pt x="16842" y="7441"/>
                </a:cubicBezTo>
                <a:cubicBezTo>
                  <a:pt x="16888" y="7358"/>
                  <a:pt x="16917" y="7301"/>
                  <a:pt x="17016" y="7293"/>
                </a:cubicBezTo>
                <a:cubicBezTo>
                  <a:pt x="17110" y="7285"/>
                  <a:pt x="17110" y="7292"/>
                  <a:pt x="17190" y="7243"/>
                </a:cubicBezTo>
                <a:cubicBezTo>
                  <a:pt x="17283" y="7185"/>
                  <a:pt x="17296" y="7253"/>
                  <a:pt x="17388" y="7268"/>
                </a:cubicBezTo>
                <a:cubicBezTo>
                  <a:pt x="17456" y="7268"/>
                  <a:pt x="17475" y="7271"/>
                  <a:pt x="17512" y="72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661080" y="2205000"/>
            <a:ext cx="858960" cy="519120"/>
          </a:xfrm>
          <a:custGeom>
            <a:avLst/>
            <a:gdLst/>
            <a:ahLst/>
            <a:rect l="l" t="t" r="r" b="b"/>
            <a:pathLst>
              <a:path w="2383" h="1439">
                <a:moveTo>
                  <a:pt x="18504" y="6672"/>
                </a:moveTo>
                <a:cubicBezTo>
                  <a:pt x="18603" y="6672"/>
                  <a:pt x="18703" y="6672"/>
                  <a:pt x="18802" y="6672"/>
                </a:cubicBezTo>
              </a:path>
              <a:path w="2383" h="1439">
                <a:moveTo>
                  <a:pt x="18504" y="6896"/>
                </a:moveTo>
                <a:cubicBezTo>
                  <a:pt x="18620" y="6873"/>
                  <a:pt x="18654" y="6866"/>
                  <a:pt x="18728" y="6846"/>
                </a:cubicBezTo>
              </a:path>
              <a:path w="2383" h="1439">
                <a:moveTo>
                  <a:pt x="19422" y="6449"/>
                </a:moveTo>
                <a:cubicBezTo>
                  <a:pt x="19441" y="6622"/>
                  <a:pt x="19469" y="6792"/>
                  <a:pt x="19472" y="6970"/>
                </a:cubicBezTo>
                <a:cubicBezTo>
                  <a:pt x="19472" y="7061"/>
                  <a:pt x="19472" y="7069"/>
                  <a:pt x="19472" y="7119"/>
                </a:cubicBezTo>
              </a:path>
              <a:path w="2383" h="1439">
                <a:moveTo>
                  <a:pt x="19670" y="6524"/>
                </a:moveTo>
                <a:cubicBezTo>
                  <a:pt x="19710" y="6681"/>
                  <a:pt x="19665" y="6762"/>
                  <a:pt x="19844" y="6747"/>
                </a:cubicBezTo>
                <a:cubicBezTo>
                  <a:pt x="19985" y="6727"/>
                  <a:pt x="20013" y="6728"/>
                  <a:pt x="20092" y="6697"/>
                </a:cubicBezTo>
              </a:path>
              <a:path w="2383" h="1439">
                <a:moveTo>
                  <a:pt x="20067" y="6375"/>
                </a:moveTo>
                <a:cubicBezTo>
                  <a:pt x="20073" y="6566"/>
                  <a:pt x="20092" y="6754"/>
                  <a:pt x="20092" y="6945"/>
                </a:cubicBezTo>
              </a:path>
              <a:path w="2383" h="1439">
                <a:moveTo>
                  <a:pt x="19224" y="7268"/>
                </a:moveTo>
                <a:cubicBezTo>
                  <a:pt x="19279" y="7437"/>
                  <a:pt x="19341" y="7488"/>
                  <a:pt x="19521" y="7541"/>
                </a:cubicBezTo>
                <a:cubicBezTo>
                  <a:pt x="19739" y="7605"/>
                  <a:pt x="19955" y="7548"/>
                  <a:pt x="20166" y="7491"/>
                </a:cubicBezTo>
                <a:cubicBezTo>
                  <a:pt x="20367" y="7437"/>
                  <a:pt x="20552" y="7353"/>
                  <a:pt x="20712" y="7218"/>
                </a:cubicBezTo>
                <a:cubicBezTo>
                  <a:pt x="20836" y="7113"/>
                  <a:pt x="20897" y="6930"/>
                  <a:pt x="20886" y="6772"/>
                </a:cubicBezTo>
                <a:cubicBezTo>
                  <a:pt x="20876" y="6627"/>
                  <a:pt x="20769" y="6511"/>
                  <a:pt x="20662" y="6424"/>
                </a:cubicBezTo>
                <a:cubicBezTo>
                  <a:pt x="20531" y="6318"/>
                  <a:pt x="20419" y="6279"/>
                  <a:pt x="20265" y="6226"/>
                </a:cubicBezTo>
                <a:cubicBezTo>
                  <a:pt x="20131" y="6180"/>
                  <a:pt x="20012" y="6131"/>
                  <a:pt x="19869" y="6127"/>
                </a:cubicBezTo>
                <a:cubicBezTo>
                  <a:pt x="19673" y="6121"/>
                  <a:pt x="19511" y="6144"/>
                  <a:pt x="19323" y="6201"/>
                </a:cubicBezTo>
                <a:cubicBezTo>
                  <a:pt x="19147" y="6254"/>
                  <a:pt x="19034" y="6294"/>
                  <a:pt x="18926" y="6449"/>
                </a:cubicBezTo>
                <a:cubicBezTo>
                  <a:pt x="18828" y="6590"/>
                  <a:pt x="18785" y="6754"/>
                  <a:pt x="18777" y="6921"/>
                </a:cubicBezTo>
                <a:cubicBezTo>
                  <a:pt x="18769" y="7078"/>
                  <a:pt x="18852" y="7224"/>
                  <a:pt x="18951" y="7342"/>
                </a:cubicBezTo>
                <a:cubicBezTo>
                  <a:pt x="19053" y="7464"/>
                  <a:pt x="19173" y="7486"/>
                  <a:pt x="19323" y="7491"/>
                </a:cubicBezTo>
                <a:cubicBezTo>
                  <a:pt x="19381" y="7491"/>
                  <a:pt x="19389" y="7491"/>
                  <a:pt x="19422" y="7491"/>
                </a:cubicBezTo>
              </a:path>
              <a:path w="2383" h="1439">
                <a:moveTo>
                  <a:pt x="19224" y="7441"/>
                </a:moveTo>
                <a:cubicBezTo>
                  <a:pt x="19314" y="7455"/>
                  <a:pt x="19378" y="7448"/>
                  <a:pt x="19472" y="7441"/>
                </a:cubicBezTo>
              </a:path>
              <a:path w="2383" h="1439">
                <a:moveTo>
                  <a:pt x="19273" y="7541"/>
                </a:moveTo>
                <a:cubicBezTo>
                  <a:pt x="19367" y="7530"/>
                  <a:pt x="19465" y="7507"/>
                  <a:pt x="19546" y="74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82920" y="35272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6896" y="9798"/>
                </a:moveTo>
                <a:lnTo>
                  <a:pt x="6896" y="979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95320" y="2732040"/>
            <a:ext cx="241560" cy="108000"/>
          </a:xfrm>
          <a:custGeom>
            <a:avLst/>
            <a:gdLst/>
            <a:ahLst/>
            <a:rect l="l" t="t" r="r" b="b"/>
            <a:pathLst>
              <a:path w="670" h="299">
                <a:moveTo>
                  <a:pt x="4986" y="7689"/>
                </a:moveTo>
                <a:cubicBezTo>
                  <a:pt x="4986" y="7788"/>
                  <a:pt x="4986" y="7805"/>
                  <a:pt x="4986" y="7863"/>
                </a:cubicBezTo>
                <a:cubicBezTo>
                  <a:pt x="5109" y="7888"/>
                  <a:pt x="5248" y="7841"/>
                  <a:pt x="5383" y="7838"/>
                </a:cubicBezTo>
                <a:cubicBezTo>
                  <a:pt x="5457" y="7836"/>
                  <a:pt x="5532" y="7838"/>
                  <a:pt x="5606" y="7838"/>
                </a:cubicBezTo>
                <a:cubicBezTo>
                  <a:pt x="5622" y="7749"/>
                  <a:pt x="5633" y="7675"/>
                  <a:pt x="5655" y="75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41320" y="2894040"/>
            <a:ext cx="133560" cy="204840"/>
          </a:xfrm>
          <a:custGeom>
            <a:avLst/>
            <a:gdLst/>
            <a:ahLst/>
            <a:rect l="l" t="t" r="r" b="b"/>
            <a:pathLst>
              <a:path w="373" h="571">
                <a:moveTo>
                  <a:pt x="4961" y="8136"/>
                </a:moveTo>
                <a:cubicBezTo>
                  <a:pt x="5045" y="8052"/>
                  <a:pt x="5056" y="8019"/>
                  <a:pt x="5135" y="8037"/>
                </a:cubicBezTo>
                <a:cubicBezTo>
                  <a:pt x="5165" y="8198"/>
                  <a:pt x="5156" y="8178"/>
                  <a:pt x="5035" y="8310"/>
                </a:cubicBezTo>
                <a:cubicBezTo>
                  <a:pt x="5143" y="8201"/>
                  <a:pt x="5274" y="8250"/>
                  <a:pt x="5184" y="8434"/>
                </a:cubicBezTo>
                <a:cubicBezTo>
                  <a:pt x="5102" y="8602"/>
                  <a:pt x="4974" y="8639"/>
                  <a:pt x="4837" y="85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93960" y="2911320"/>
            <a:ext cx="115920" cy="169920"/>
          </a:xfrm>
          <a:custGeom>
            <a:avLst/>
            <a:gdLst/>
            <a:ahLst/>
            <a:rect l="l" t="t" r="r" b="b"/>
            <a:pathLst>
              <a:path w="323" h="473">
                <a:moveTo>
                  <a:pt x="5383" y="8111"/>
                </a:moveTo>
                <a:cubicBezTo>
                  <a:pt x="5461" y="8085"/>
                  <a:pt x="5488" y="8079"/>
                  <a:pt x="5531" y="8136"/>
                </a:cubicBezTo>
                <a:cubicBezTo>
                  <a:pt x="5557" y="8313"/>
                  <a:pt x="5519" y="8453"/>
                  <a:pt x="5333" y="8533"/>
                </a:cubicBezTo>
                <a:cubicBezTo>
                  <a:pt x="5308" y="8533"/>
                  <a:pt x="5284" y="8533"/>
                  <a:pt x="5259" y="8533"/>
                </a:cubicBezTo>
                <a:cubicBezTo>
                  <a:pt x="5269" y="8415"/>
                  <a:pt x="5300" y="8295"/>
                  <a:pt x="5457" y="8384"/>
                </a:cubicBezTo>
                <a:cubicBezTo>
                  <a:pt x="5531" y="8426"/>
                  <a:pt x="5564" y="8489"/>
                  <a:pt x="5581" y="85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43080" y="2928960"/>
            <a:ext cx="1800" cy="98280"/>
          </a:xfrm>
          <a:custGeom>
            <a:avLst/>
            <a:gdLst/>
            <a:ahLst/>
            <a:rect l="l" t="t" r="r" b="b"/>
            <a:pathLst>
              <a:path w="1" h="274">
                <a:moveTo>
                  <a:pt x="5953" y="8136"/>
                </a:moveTo>
                <a:cubicBezTo>
                  <a:pt x="5953" y="8227"/>
                  <a:pt x="5953" y="8318"/>
                  <a:pt x="5953" y="84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16080" y="2955960"/>
            <a:ext cx="125640" cy="36360"/>
          </a:xfrm>
          <a:custGeom>
            <a:avLst/>
            <a:gdLst/>
            <a:ahLst/>
            <a:rect l="l" t="t" r="r" b="b"/>
            <a:pathLst>
              <a:path w="348" h="101">
                <a:moveTo>
                  <a:pt x="5879" y="8310"/>
                </a:moveTo>
                <a:cubicBezTo>
                  <a:pt x="5993" y="8281"/>
                  <a:pt x="6111" y="8243"/>
                  <a:pt x="6226" y="82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68360" y="2857680"/>
            <a:ext cx="115920" cy="196560"/>
          </a:xfrm>
          <a:custGeom>
            <a:avLst/>
            <a:gdLst/>
            <a:ahLst/>
            <a:rect l="l" t="t" r="r" b="b"/>
            <a:pathLst>
              <a:path w="324" h="546">
                <a:moveTo>
                  <a:pt x="6375" y="8062"/>
                </a:moveTo>
                <a:cubicBezTo>
                  <a:pt x="6427" y="7957"/>
                  <a:pt x="6468" y="7939"/>
                  <a:pt x="6573" y="7962"/>
                </a:cubicBezTo>
                <a:cubicBezTo>
                  <a:pt x="6595" y="8102"/>
                  <a:pt x="6585" y="8119"/>
                  <a:pt x="6474" y="8210"/>
                </a:cubicBezTo>
                <a:cubicBezTo>
                  <a:pt x="6615" y="8173"/>
                  <a:pt x="6658" y="8211"/>
                  <a:pt x="6573" y="8359"/>
                </a:cubicBezTo>
                <a:cubicBezTo>
                  <a:pt x="6491" y="8503"/>
                  <a:pt x="6439" y="8475"/>
                  <a:pt x="6300" y="84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55880" y="3116160"/>
            <a:ext cx="276120" cy="108000"/>
          </a:xfrm>
          <a:custGeom>
            <a:avLst/>
            <a:gdLst/>
            <a:ahLst/>
            <a:rect l="l" t="t" r="r" b="b"/>
            <a:pathLst>
              <a:path w="770" h="298">
                <a:moveTo>
                  <a:pt x="5432" y="8731"/>
                </a:moveTo>
                <a:cubicBezTo>
                  <a:pt x="5432" y="8805"/>
                  <a:pt x="5432" y="8880"/>
                  <a:pt x="5432" y="8954"/>
                </a:cubicBezTo>
                <a:cubicBezTo>
                  <a:pt x="5627" y="8901"/>
                  <a:pt x="5734" y="8851"/>
                  <a:pt x="5953" y="8880"/>
                </a:cubicBezTo>
                <a:cubicBezTo>
                  <a:pt x="6037" y="8891"/>
                  <a:pt x="6118" y="8918"/>
                  <a:pt x="6201" y="8930"/>
                </a:cubicBezTo>
                <a:cubicBezTo>
                  <a:pt x="6177" y="8789"/>
                  <a:pt x="6171" y="8748"/>
                  <a:pt x="6152" y="86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84240" y="3313080"/>
            <a:ext cx="152640" cy="187200"/>
          </a:xfrm>
          <a:custGeom>
            <a:avLst/>
            <a:gdLst/>
            <a:ahLst/>
            <a:rect l="l" t="t" r="r" b="b"/>
            <a:pathLst>
              <a:path w="422" h="521">
                <a:moveTo>
                  <a:pt x="5308" y="9277"/>
                </a:moveTo>
                <a:cubicBezTo>
                  <a:pt x="5365" y="9210"/>
                  <a:pt x="5400" y="9183"/>
                  <a:pt x="5482" y="9227"/>
                </a:cubicBezTo>
                <a:cubicBezTo>
                  <a:pt x="5498" y="9235"/>
                  <a:pt x="5609" y="9289"/>
                  <a:pt x="5581" y="9327"/>
                </a:cubicBezTo>
                <a:cubicBezTo>
                  <a:pt x="5513" y="9395"/>
                  <a:pt x="5496" y="9417"/>
                  <a:pt x="5432" y="9426"/>
                </a:cubicBezTo>
                <a:cubicBezTo>
                  <a:pt x="5424" y="9434"/>
                  <a:pt x="5415" y="9443"/>
                  <a:pt x="5407" y="9451"/>
                </a:cubicBezTo>
                <a:cubicBezTo>
                  <a:pt x="5489" y="9406"/>
                  <a:pt x="5566" y="9365"/>
                  <a:pt x="5631" y="9475"/>
                </a:cubicBezTo>
                <a:cubicBezTo>
                  <a:pt x="5681" y="9560"/>
                  <a:pt x="5646" y="9657"/>
                  <a:pt x="5556" y="9699"/>
                </a:cubicBezTo>
                <a:cubicBezTo>
                  <a:pt x="5443" y="9751"/>
                  <a:pt x="5339" y="9721"/>
                  <a:pt x="5234" y="96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71800" y="3295800"/>
            <a:ext cx="142920" cy="152280"/>
          </a:xfrm>
          <a:custGeom>
            <a:avLst/>
            <a:gdLst/>
            <a:ahLst/>
            <a:rect l="l" t="t" r="r" b="b"/>
            <a:pathLst>
              <a:path w="398" h="423">
                <a:moveTo>
                  <a:pt x="6028" y="9153"/>
                </a:moveTo>
                <a:cubicBezTo>
                  <a:pt x="5997" y="9165"/>
                  <a:pt x="5756" y="9223"/>
                  <a:pt x="5755" y="9227"/>
                </a:cubicBezTo>
                <a:cubicBezTo>
                  <a:pt x="5755" y="9310"/>
                  <a:pt x="5755" y="9326"/>
                  <a:pt x="5755" y="9376"/>
                </a:cubicBezTo>
                <a:cubicBezTo>
                  <a:pt x="5871" y="9350"/>
                  <a:pt x="5972" y="9288"/>
                  <a:pt x="6102" y="9351"/>
                </a:cubicBezTo>
                <a:cubicBezTo>
                  <a:pt x="6119" y="9368"/>
                  <a:pt x="6135" y="9384"/>
                  <a:pt x="6152" y="9401"/>
                </a:cubicBezTo>
                <a:cubicBezTo>
                  <a:pt x="6081" y="9542"/>
                  <a:pt x="6037" y="9563"/>
                  <a:pt x="5879" y="95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76240" y="3197160"/>
            <a:ext cx="625680" cy="428760"/>
          </a:xfrm>
          <a:custGeom>
            <a:avLst/>
            <a:gdLst/>
            <a:ahLst/>
            <a:rect l="l" t="t" r="r" b="b"/>
            <a:pathLst>
              <a:path w="1737" h="1192">
                <a:moveTo>
                  <a:pt x="4936" y="9823"/>
                </a:moveTo>
                <a:cubicBezTo>
                  <a:pt x="5038" y="9915"/>
                  <a:pt x="5096" y="9957"/>
                  <a:pt x="5234" y="9996"/>
                </a:cubicBezTo>
                <a:cubicBezTo>
                  <a:pt x="5410" y="10046"/>
                  <a:pt x="5627" y="10038"/>
                  <a:pt x="5804" y="9996"/>
                </a:cubicBezTo>
                <a:cubicBezTo>
                  <a:pt x="5955" y="9961"/>
                  <a:pt x="6160" y="9919"/>
                  <a:pt x="6300" y="9847"/>
                </a:cubicBezTo>
                <a:cubicBezTo>
                  <a:pt x="6412" y="9790"/>
                  <a:pt x="6502" y="9733"/>
                  <a:pt x="6573" y="9624"/>
                </a:cubicBezTo>
                <a:cubicBezTo>
                  <a:pt x="6636" y="9528"/>
                  <a:pt x="6668" y="9414"/>
                  <a:pt x="6672" y="9302"/>
                </a:cubicBezTo>
                <a:cubicBezTo>
                  <a:pt x="6675" y="9210"/>
                  <a:pt x="6665" y="9202"/>
                  <a:pt x="6623" y="9128"/>
                </a:cubicBezTo>
                <a:cubicBezTo>
                  <a:pt x="6546" y="8993"/>
                  <a:pt x="6441" y="8972"/>
                  <a:pt x="6300" y="8930"/>
                </a:cubicBezTo>
                <a:cubicBezTo>
                  <a:pt x="6183" y="8895"/>
                  <a:pt x="6051" y="8884"/>
                  <a:pt x="5928" y="8880"/>
                </a:cubicBezTo>
                <a:cubicBezTo>
                  <a:pt x="5808" y="8876"/>
                  <a:pt x="5699" y="8901"/>
                  <a:pt x="5581" y="8905"/>
                </a:cubicBezTo>
                <a:cubicBezTo>
                  <a:pt x="5477" y="8908"/>
                  <a:pt x="5376" y="8928"/>
                  <a:pt x="5283" y="8979"/>
                </a:cubicBezTo>
                <a:cubicBezTo>
                  <a:pt x="5130" y="9062"/>
                  <a:pt x="5048" y="9098"/>
                  <a:pt x="4986" y="9252"/>
                </a:cubicBezTo>
                <a:cubicBezTo>
                  <a:pt x="4941" y="9364"/>
                  <a:pt x="4944" y="9416"/>
                  <a:pt x="4961" y="9525"/>
                </a:cubicBezTo>
                <a:cubicBezTo>
                  <a:pt x="4974" y="9604"/>
                  <a:pt x="5023" y="9667"/>
                  <a:pt x="5035" y="9748"/>
                </a:cubicBezTo>
                <a:cubicBezTo>
                  <a:pt x="5050" y="9849"/>
                  <a:pt x="5057" y="9861"/>
                  <a:pt x="5110" y="9947"/>
                </a:cubicBezTo>
                <a:cubicBezTo>
                  <a:pt x="5151" y="10014"/>
                  <a:pt x="5228" y="10054"/>
                  <a:pt x="5308" y="10071"/>
                </a:cubicBezTo>
                <a:cubicBezTo>
                  <a:pt x="5325" y="10071"/>
                  <a:pt x="5341" y="10071"/>
                  <a:pt x="5358" y="100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20920" y="4643280"/>
            <a:ext cx="385920" cy="206640"/>
          </a:xfrm>
          <a:custGeom>
            <a:avLst/>
            <a:gdLst/>
            <a:ahLst/>
            <a:rect l="l" t="t" r="r" b="b"/>
            <a:pathLst>
              <a:path w="1068" h="572">
                <a:moveTo>
                  <a:pt x="6449" y="13221"/>
                </a:moveTo>
                <a:cubicBezTo>
                  <a:pt x="6493" y="13352"/>
                  <a:pt x="6509" y="13382"/>
                  <a:pt x="6499" y="13469"/>
                </a:cubicBezTo>
                <a:cubicBezTo>
                  <a:pt x="6748" y="13339"/>
                  <a:pt x="6926" y="13250"/>
                  <a:pt x="7218" y="13271"/>
                </a:cubicBezTo>
                <a:cubicBezTo>
                  <a:pt x="7325" y="13292"/>
                  <a:pt x="7349" y="13300"/>
                  <a:pt x="7417" y="13295"/>
                </a:cubicBezTo>
                <a:cubicBezTo>
                  <a:pt x="7483" y="13184"/>
                  <a:pt x="7461" y="13077"/>
                  <a:pt x="7491" y="12948"/>
                </a:cubicBezTo>
                <a:cubicBezTo>
                  <a:pt x="7499" y="12931"/>
                  <a:pt x="7508" y="12915"/>
                  <a:pt x="7516" y="128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19200" y="4929120"/>
            <a:ext cx="144720" cy="214560"/>
          </a:xfrm>
          <a:custGeom>
            <a:avLst/>
            <a:gdLst/>
            <a:ahLst/>
            <a:rect l="l" t="t" r="r" b="b"/>
            <a:pathLst>
              <a:path w="398" h="597">
                <a:moveTo>
                  <a:pt x="6896" y="13791"/>
                </a:moveTo>
                <a:cubicBezTo>
                  <a:pt x="6948" y="13713"/>
                  <a:pt x="6969" y="13687"/>
                  <a:pt x="7045" y="13692"/>
                </a:cubicBezTo>
                <a:cubicBezTo>
                  <a:pt x="7148" y="13865"/>
                  <a:pt x="7155" y="14078"/>
                  <a:pt x="6945" y="14213"/>
                </a:cubicBezTo>
                <a:cubicBezTo>
                  <a:pt x="6826" y="14237"/>
                  <a:pt x="6789" y="14248"/>
                  <a:pt x="6722" y="14188"/>
                </a:cubicBezTo>
                <a:cubicBezTo>
                  <a:pt x="6744" y="14067"/>
                  <a:pt x="6823" y="13973"/>
                  <a:pt x="6970" y="14039"/>
                </a:cubicBezTo>
                <a:cubicBezTo>
                  <a:pt x="7090" y="14093"/>
                  <a:pt x="7086" y="14179"/>
                  <a:pt x="7119" y="142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33760" y="4938840"/>
            <a:ext cx="90360" cy="187200"/>
          </a:xfrm>
          <a:custGeom>
            <a:avLst/>
            <a:gdLst/>
            <a:ahLst/>
            <a:rect l="l" t="t" r="r" b="b"/>
            <a:pathLst>
              <a:path w="249" h="522">
                <a:moveTo>
                  <a:pt x="7541" y="13717"/>
                </a:moveTo>
                <a:cubicBezTo>
                  <a:pt x="7439" y="13758"/>
                  <a:pt x="7359" y="13785"/>
                  <a:pt x="7317" y="13891"/>
                </a:cubicBezTo>
                <a:cubicBezTo>
                  <a:pt x="7416" y="13970"/>
                  <a:pt x="7595" y="14008"/>
                  <a:pt x="7565" y="14163"/>
                </a:cubicBezTo>
                <a:cubicBezTo>
                  <a:pt x="7519" y="14234"/>
                  <a:pt x="7507" y="14259"/>
                  <a:pt x="7441" y="14238"/>
                </a:cubicBezTo>
                <a:cubicBezTo>
                  <a:pt x="7451" y="14067"/>
                  <a:pt x="7503" y="13950"/>
                  <a:pt x="7565" y="137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03200" y="5000760"/>
            <a:ext cx="142920" cy="1872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3721" y="13891"/>
                </a:moveTo>
                <a:cubicBezTo>
                  <a:pt x="3942" y="13972"/>
                  <a:pt x="4055" y="14084"/>
                  <a:pt x="3870" y="14312"/>
                </a:cubicBezTo>
                <a:cubicBezTo>
                  <a:pt x="3761" y="14400"/>
                  <a:pt x="3740" y="14433"/>
                  <a:pt x="3646" y="14412"/>
                </a:cubicBezTo>
                <a:cubicBezTo>
                  <a:pt x="3635" y="14234"/>
                  <a:pt x="3733" y="14072"/>
                  <a:pt x="3944" y="14213"/>
                </a:cubicBezTo>
                <a:cubicBezTo>
                  <a:pt x="3969" y="14246"/>
                  <a:pt x="3993" y="14279"/>
                  <a:pt x="4018" y="143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00120" y="4964040"/>
            <a:ext cx="169920" cy="206280"/>
          </a:xfrm>
          <a:custGeom>
            <a:avLst/>
            <a:gdLst/>
            <a:ahLst/>
            <a:rect l="l" t="t" r="r" b="b"/>
            <a:pathLst>
              <a:path w="472" h="572">
                <a:moveTo>
                  <a:pt x="4390" y="13791"/>
                </a:moveTo>
                <a:cubicBezTo>
                  <a:pt x="4262" y="13878"/>
                  <a:pt x="4242" y="13849"/>
                  <a:pt x="4192" y="14015"/>
                </a:cubicBezTo>
                <a:cubicBezTo>
                  <a:pt x="4184" y="14048"/>
                  <a:pt x="4175" y="14081"/>
                  <a:pt x="4167" y="14114"/>
                </a:cubicBezTo>
                <a:cubicBezTo>
                  <a:pt x="4371" y="14063"/>
                  <a:pt x="4460" y="14006"/>
                  <a:pt x="4638" y="14114"/>
                </a:cubicBezTo>
                <a:cubicBezTo>
                  <a:pt x="4607" y="14238"/>
                  <a:pt x="4450" y="14486"/>
                  <a:pt x="4266" y="14337"/>
                </a:cubicBezTo>
                <a:cubicBezTo>
                  <a:pt x="4258" y="14304"/>
                  <a:pt x="4250" y="14271"/>
                  <a:pt x="4242" y="142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8960" y="4964040"/>
            <a:ext cx="46080" cy="144360"/>
          </a:xfrm>
          <a:custGeom>
            <a:avLst/>
            <a:gdLst/>
            <a:ahLst/>
            <a:rect l="l" t="t" r="r" b="b"/>
            <a:pathLst>
              <a:path w="125" h="398">
                <a:moveTo>
                  <a:pt x="4887" y="13791"/>
                </a:moveTo>
                <a:cubicBezTo>
                  <a:pt x="4942" y="13923"/>
                  <a:pt x="4979" y="14048"/>
                  <a:pt x="5011" y="141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41320" y="5045040"/>
            <a:ext cx="44640" cy="19080"/>
          </a:xfrm>
          <a:custGeom>
            <a:avLst/>
            <a:gdLst/>
            <a:ahLst/>
            <a:rect l="l" t="t" r="r" b="b"/>
            <a:pathLst>
              <a:path w="125" h="50">
                <a:moveTo>
                  <a:pt x="4837" y="14064"/>
                </a:moveTo>
                <a:cubicBezTo>
                  <a:pt x="4878" y="14048"/>
                  <a:pt x="4920" y="14031"/>
                  <a:pt x="4961" y="140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93960" y="4946760"/>
            <a:ext cx="79200" cy="90360"/>
          </a:xfrm>
          <a:custGeom>
            <a:avLst/>
            <a:gdLst/>
            <a:ahLst/>
            <a:rect l="l" t="t" r="r" b="b"/>
            <a:pathLst>
              <a:path w="224" h="249">
                <a:moveTo>
                  <a:pt x="5283" y="13742"/>
                </a:moveTo>
                <a:cubicBezTo>
                  <a:pt x="5263" y="13868"/>
                  <a:pt x="5217" y="14011"/>
                  <a:pt x="5407" y="13990"/>
                </a:cubicBezTo>
                <a:cubicBezTo>
                  <a:pt x="5432" y="13982"/>
                  <a:pt x="5457" y="13973"/>
                  <a:pt x="5482" y="139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63800" y="4884840"/>
            <a:ext cx="28440" cy="231840"/>
          </a:xfrm>
          <a:custGeom>
            <a:avLst/>
            <a:gdLst/>
            <a:ahLst/>
            <a:rect l="l" t="t" r="r" b="b"/>
            <a:pathLst>
              <a:path w="75" h="646">
                <a:moveTo>
                  <a:pt x="5482" y="13568"/>
                </a:moveTo>
                <a:cubicBezTo>
                  <a:pt x="5463" y="13790"/>
                  <a:pt x="5492" y="13992"/>
                  <a:pt x="5531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25800" y="5000760"/>
            <a:ext cx="98280" cy="27000"/>
          </a:xfrm>
          <a:custGeom>
            <a:avLst/>
            <a:gdLst/>
            <a:ahLst/>
            <a:rect l="l" t="t" r="r" b="b"/>
            <a:pathLst>
              <a:path w="273" h="75">
                <a:moveTo>
                  <a:pt x="5904" y="13965"/>
                </a:moveTo>
                <a:cubicBezTo>
                  <a:pt x="5995" y="13939"/>
                  <a:pt x="6085" y="13916"/>
                  <a:pt x="6176" y="138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8120" y="5160960"/>
            <a:ext cx="312840" cy="179280"/>
          </a:xfrm>
          <a:custGeom>
            <a:avLst/>
            <a:gdLst/>
            <a:ahLst/>
            <a:rect l="l" t="t" r="r" b="b"/>
            <a:pathLst>
              <a:path w="869" h="497">
                <a:moveTo>
                  <a:pt x="4465" y="14610"/>
                </a:moveTo>
                <a:cubicBezTo>
                  <a:pt x="4529" y="14685"/>
                  <a:pt x="4569" y="14744"/>
                  <a:pt x="4614" y="14833"/>
                </a:cubicBezTo>
                <a:cubicBezTo>
                  <a:pt x="4775" y="14726"/>
                  <a:pt x="4914" y="14655"/>
                  <a:pt x="5110" y="14635"/>
                </a:cubicBezTo>
                <a:cubicBezTo>
                  <a:pt x="5239" y="14622"/>
                  <a:pt x="5188" y="14663"/>
                  <a:pt x="5283" y="14635"/>
                </a:cubicBezTo>
                <a:cubicBezTo>
                  <a:pt x="5311" y="14540"/>
                  <a:pt x="5320" y="14438"/>
                  <a:pt x="5333" y="143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60680" y="5402160"/>
            <a:ext cx="144360" cy="206640"/>
          </a:xfrm>
          <a:custGeom>
            <a:avLst/>
            <a:gdLst/>
            <a:ahLst/>
            <a:rect l="l" t="t" r="r" b="b"/>
            <a:pathLst>
              <a:path w="398" h="571">
                <a:moveTo>
                  <a:pt x="4614" y="15056"/>
                </a:moveTo>
                <a:cubicBezTo>
                  <a:pt x="4785" y="14963"/>
                  <a:pt x="4983" y="15033"/>
                  <a:pt x="4961" y="15280"/>
                </a:cubicBezTo>
                <a:cubicBezTo>
                  <a:pt x="4940" y="15513"/>
                  <a:pt x="4815" y="15538"/>
                  <a:pt x="4638" y="15577"/>
                </a:cubicBezTo>
                <a:cubicBezTo>
                  <a:pt x="4639" y="15369"/>
                  <a:pt x="4732" y="15317"/>
                  <a:pt x="4936" y="15404"/>
                </a:cubicBezTo>
                <a:cubicBezTo>
                  <a:pt x="4961" y="15420"/>
                  <a:pt x="4986" y="15437"/>
                  <a:pt x="5011" y="154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47880" y="5402160"/>
            <a:ext cx="144360" cy="162000"/>
          </a:xfrm>
          <a:custGeom>
            <a:avLst/>
            <a:gdLst/>
            <a:ahLst/>
            <a:rect l="l" t="t" r="r" b="b"/>
            <a:pathLst>
              <a:path w="397" h="447">
                <a:moveTo>
                  <a:pt x="5407" y="15032"/>
                </a:moveTo>
                <a:cubicBezTo>
                  <a:pt x="5223" y="15007"/>
                  <a:pt x="5142" y="15067"/>
                  <a:pt x="5135" y="15280"/>
                </a:cubicBezTo>
                <a:cubicBezTo>
                  <a:pt x="5143" y="15296"/>
                  <a:pt x="5151" y="15313"/>
                  <a:pt x="5159" y="15329"/>
                </a:cubicBezTo>
                <a:cubicBezTo>
                  <a:pt x="5297" y="15256"/>
                  <a:pt x="5348" y="15196"/>
                  <a:pt x="5432" y="15056"/>
                </a:cubicBezTo>
                <a:cubicBezTo>
                  <a:pt x="5469" y="15190"/>
                  <a:pt x="5503" y="15317"/>
                  <a:pt x="5531" y="154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71800" y="5456160"/>
            <a:ext cx="36360" cy="17640"/>
          </a:xfrm>
          <a:custGeom>
            <a:avLst/>
            <a:gdLst/>
            <a:ahLst/>
            <a:rect l="l" t="t" r="r" b="b"/>
            <a:pathLst>
              <a:path w="100" h="50">
                <a:moveTo>
                  <a:pt x="5755" y="15205"/>
                </a:moveTo>
                <a:cubicBezTo>
                  <a:pt x="5788" y="15189"/>
                  <a:pt x="5821" y="15172"/>
                  <a:pt x="5854" y="151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59000" y="5392800"/>
            <a:ext cx="142920" cy="162000"/>
          </a:xfrm>
          <a:custGeom>
            <a:avLst/>
            <a:gdLst/>
            <a:ahLst/>
            <a:rect l="l" t="t" r="r" b="b"/>
            <a:pathLst>
              <a:path w="397" h="448">
                <a:moveTo>
                  <a:pt x="6276" y="14982"/>
                </a:moveTo>
                <a:cubicBezTo>
                  <a:pt x="6393" y="14992"/>
                  <a:pt x="6658" y="15003"/>
                  <a:pt x="6573" y="15205"/>
                </a:cubicBezTo>
                <a:cubicBezTo>
                  <a:pt x="6473" y="15305"/>
                  <a:pt x="6438" y="15339"/>
                  <a:pt x="6350" y="15379"/>
                </a:cubicBezTo>
                <a:cubicBezTo>
                  <a:pt x="6333" y="15362"/>
                  <a:pt x="6317" y="15346"/>
                  <a:pt x="6300" y="15329"/>
                </a:cubicBezTo>
                <a:cubicBezTo>
                  <a:pt x="6448" y="15145"/>
                  <a:pt x="6544" y="15274"/>
                  <a:pt x="6672" y="154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55920" y="5357880"/>
            <a:ext cx="125280" cy="187200"/>
          </a:xfrm>
          <a:custGeom>
            <a:avLst/>
            <a:gdLst/>
            <a:ahLst/>
            <a:rect l="l" t="t" r="r" b="b"/>
            <a:pathLst>
              <a:path w="349" h="522">
                <a:moveTo>
                  <a:pt x="6945" y="14883"/>
                </a:moveTo>
                <a:cubicBezTo>
                  <a:pt x="6821" y="15075"/>
                  <a:pt x="6730" y="15140"/>
                  <a:pt x="6970" y="15180"/>
                </a:cubicBezTo>
                <a:cubicBezTo>
                  <a:pt x="7106" y="15203"/>
                  <a:pt x="7149" y="15199"/>
                  <a:pt x="7169" y="15304"/>
                </a:cubicBezTo>
                <a:cubicBezTo>
                  <a:pt x="7112" y="15389"/>
                  <a:pt x="7084" y="15416"/>
                  <a:pt x="6995" y="15404"/>
                </a:cubicBezTo>
                <a:cubicBezTo>
                  <a:pt x="6895" y="15190"/>
                  <a:pt x="6959" y="15111"/>
                  <a:pt x="7094" y="149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71800" y="5554800"/>
            <a:ext cx="374400" cy="160200"/>
          </a:xfrm>
          <a:custGeom>
            <a:avLst/>
            <a:gdLst/>
            <a:ahLst/>
            <a:rect l="l" t="t" r="r" b="b"/>
            <a:pathLst>
              <a:path w="1042" h="447">
                <a:moveTo>
                  <a:pt x="5755" y="15652"/>
                </a:moveTo>
                <a:cubicBezTo>
                  <a:pt x="5816" y="15775"/>
                  <a:pt x="5831" y="15796"/>
                  <a:pt x="5854" y="15875"/>
                </a:cubicBezTo>
                <a:cubicBezTo>
                  <a:pt x="6081" y="15753"/>
                  <a:pt x="6263" y="15674"/>
                  <a:pt x="6524" y="15652"/>
                </a:cubicBezTo>
                <a:cubicBezTo>
                  <a:pt x="6768" y="15631"/>
                  <a:pt x="6796" y="15771"/>
                  <a:pt x="6796" y="15503"/>
                </a:cubicBezTo>
                <a:cubicBezTo>
                  <a:pt x="6796" y="15478"/>
                  <a:pt x="6796" y="15454"/>
                  <a:pt x="6796" y="154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51080" y="5786280"/>
            <a:ext cx="27000" cy="108000"/>
          </a:xfrm>
          <a:custGeom>
            <a:avLst/>
            <a:gdLst/>
            <a:ahLst/>
            <a:rect l="l" t="t" r="r" b="b"/>
            <a:pathLst>
              <a:path w="75" h="299">
                <a:moveTo>
                  <a:pt x="6251" y="16073"/>
                </a:moveTo>
                <a:cubicBezTo>
                  <a:pt x="6281" y="16175"/>
                  <a:pt x="6310" y="16268"/>
                  <a:pt x="6325" y="163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81160" y="5732640"/>
            <a:ext cx="436680" cy="420480"/>
          </a:xfrm>
          <a:custGeom>
            <a:avLst/>
            <a:gdLst/>
            <a:ahLst/>
            <a:rect l="l" t="t" r="r" b="b"/>
            <a:pathLst>
              <a:path w="1217" h="1166">
                <a:moveTo>
                  <a:pt x="6052" y="16818"/>
                </a:moveTo>
                <a:cubicBezTo>
                  <a:pt x="6390" y="16922"/>
                  <a:pt x="6653" y="16886"/>
                  <a:pt x="6896" y="16570"/>
                </a:cubicBezTo>
                <a:cubicBezTo>
                  <a:pt x="7140" y="16253"/>
                  <a:pt x="6942" y="15932"/>
                  <a:pt x="6573" y="15925"/>
                </a:cubicBezTo>
                <a:cubicBezTo>
                  <a:pt x="6085" y="15916"/>
                  <a:pt x="5597" y="16227"/>
                  <a:pt x="5854" y="16768"/>
                </a:cubicBezTo>
                <a:cubicBezTo>
                  <a:pt x="6087" y="17027"/>
                  <a:pt x="6176" y="17113"/>
                  <a:pt x="6449" y="170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75160" y="4599000"/>
            <a:ext cx="393840" cy="142920"/>
          </a:xfrm>
          <a:custGeom>
            <a:avLst/>
            <a:gdLst/>
            <a:ahLst/>
            <a:rect l="l" t="t" r="r" b="b"/>
            <a:pathLst>
              <a:path w="1093" h="398">
                <a:moveTo>
                  <a:pt x="14957" y="12898"/>
                </a:moveTo>
                <a:cubicBezTo>
                  <a:pt x="14952" y="12993"/>
                  <a:pt x="14941" y="13078"/>
                  <a:pt x="14932" y="13171"/>
                </a:cubicBezTo>
                <a:cubicBezTo>
                  <a:pt x="15121" y="13162"/>
                  <a:pt x="15313" y="13126"/>
                  <a:pt x="15503" y="13146"/>
                </a:cubicBezTo>
                <a:cubicBezTo>
                  <a:pt x="15619" y="13158"/>
                  <a:pt x="15782" y="13178"/>
                  <a:pt x="15900" y="13146"/>
                </a:cubicBezTo>
                <a:cubicBezTo>
                  <a:pt x="15936" y="13136"/>
                  <a:pt x="16003" y="12834"/>
                  <a:pt x="16024" y="127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18080" y="4830840"/>
            <a:ext cx="135000" cy="179280"/>
          </a:xfrm>
          <a:custGeom>
            <a:avLst/>
            <a:gdLst/>
            <a:ahLst/>
            <a:rect l="l" t="t" r="r" b="b"/>
            <a:pathLst>
              <a:path w="373" h="497">
                <a:moveTo>
                  <a:pt x="15677" y="13419"/>
                </a:moveTo>
                <a:cubicBezTo>
                  <a:pt x="15616" y="13434"/>
                  <a:pt x="15475" y="13422"/>
                  <a:pt x="15429" y="13469"/>
                </a:cubicBezTo>
                <a:cubicBezTo>
                  <a:pt x="15384" y="13514"/>
                  <a:pt x="15379" y="13609"/>
                  <a:pt x="15354" y="13667"/>
                </a:cubicBezTo>
                <a:cubicBezTo>
                  <a:pt x="15433" y="13659"/>
                  <a:pt x="15553" y="13607"/>
                  <a:pt x="15627" y="13667"/>
                </a:cubicBezTo>
                <a:cubicBezTo>
                  <a:pt x="15734" y="13754"/>
                  <a:pt x="15721" y="13895"/>
                  <a:pt x="15577" y="13915"/>
                </a:cubicBezTo>
                <a:cubicBezTo>
                  <a:pt x="15463" y="13931"/>
                  <a:pt x="15425" y="13887"/>
                  <a:pt x="15329" y="138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97360" y="4884840"/>
            <a:ext cx="88920" cy="54000"/>
          </a:xfrm>
          <a:custGeom>
            <a:avLst/>
            <a:gdLst/>
            <a:ahLst/>
            <a:rect l="l" t="t" r="r" b="b"/>
            <a:pathLst>
              <a:path w="249" h="150">
                <a:moveTo>
                  <a:pt x="15825" y="13568"/>
                </a:moveTo>
                <a:cubicBezTo>
                  <a:pt x="15857" y="13686"/>
                  <a:pt x="15874" y="13743"/>
                  <a:pt x="16024" y="13717"/>
                </a:cubicBezTo>
                <a:cubicBezTo>
                  <a:pt x="16040" y="13709"/>
                  <a:pt x="16057" y="13700"/>
                  <a:pt x="16073" y="136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96000" y="4840200"/>
            <a:ext cx="7920" cy="187560"/>
          </a:xfrm>
          <a:custGeom>
            <a:avLst/>
            <a:gdLst/>
            <a:ahLst/>
            <a:rect l="l" t="t" r="r" b="b"/>
            <a:pathLst>
              <a:path w="26" h="522">
                <a:moveTo>
                  <a:pt x="16098" y="13444"/>
                </a:moveTo>
                <a:cubicBezTo>
                  <a:pt x="16098" y="13587"/>
                  <a:pt x="16119" y="13724"/>
                  <a:pt x="16123" y="13866"/>
                </a:cubicBezTo>
                <a:cubicBezTo>
                  <a:pt x="16123" y="13924"/>
                  <a:pt x="16123" y="13932"/>
                  <a:pt x="16123" y="139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03880" y="4848120"/>
            <a:ext cx="19080" cy="125640"/>
          </a:xfrm>
          <a:custGeom>
            <a:avLst/>
            <a:gdLst/>
            <a:ahLst/>
            <a:rect l="l" t="t" r="r" b="b"/>
            <a:pathLst>
              <a:path w="51" h="348">
                <a:moveTo>
                  <a:pt x="14734" y="13469"/>
                </a:moveTo>
                <a:cubicBezTo>
                  <a:pt x="14745" y="13591"/>
                  <a:pt x="14780" y="13701"/>
                  <a:pt x="14759" y="138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49880" y="4919760"/>
            <a:ext cx="81000" cy="9360"/>
          </a:xfrm>
          <a:custGeom>
            <a:avLst/>
            <a:gdLst/>
            <a:ahLst/>
            <a:rect l="l" t="t" r="r" b="b"/>
            <a:pathLst>
              <a:path w="224" h="26">
                <a:moveTo>
                  <a:pt x="14585" y="13692"/>
                </a:moveTo>
                <a:cubicBezTo>
                  <a:pt x="14693" y="13692"/>
                  <a:pt x="14735" y="13690"/>
                  <a:pt x="14808" y="136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45040" y="4822920"/>
            <a:ext cx="135000" cy="187200"/>
          </a:xfrm>
          <a:custGeom>
            <a:avLst/>
            <a:gdLst/>
            <a:ahLst/>
            <a:rect l="l" t="t" r="r" b="b"/>
            <a:pathLst>
              <a:path w="373" h="521">
                <a:moveTo>
                  <a:pt x="14089" y="13444"/>
                </a:moveTo>
                <a:cubicBezTo>
                  <a:pt x="14131" y="13429"/>
                  <a:pt x="14472" y="13318"/>
                  <a:pt x="14387" y="13494"/>
                </a:cubicBezTo>
                <a:cubicBezTo>
                  <a:pt x="14353" y="13565"/>
                  <a:pt x="14252" y="13607"/>
                  <a:pt x="14188" y="13643"/>
                </a:cubicBezTo>
                <a:cubicBezTo>
                  <a:pt x="14314" y="13664"/>
                  <a:pt x="14522" y="13772"/>
                  <a:pt x="14288" y="13891"/>
                </a:cubicBezTo>
                <a:cubicBezTo>
                  <a:pt x="14204" y="13934"/>
                  <a:pt x="14089" y="13918"/>
                  <a:pt x="14015" y="138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14960" y="5027760"/>
            <a:ext cx="357120" cy="107640"/>
          </a:xfrm>
          <a:custGeom>
            <a:avLst/>
            <a:gdLst/>
            <a:ahLst/>
            <a:rect l="l" t="t" r="r" b="b"/>
            <a:pathLst>
              <a:path w="993" h="299">
                <a:moveTo>
                  <a:pt x="14486" y="14139"/>
                </a:moveTo>
                <a:cubicBezTo>
                  <a:pt x="14486" y="14207"/>
                  <a:pt x="14483" y="14226"/>
                  <a:pt x="14511" y="14263"/>
                </a:cubicBezTo>
                <a:cubicBezTo>
                  <a:pt x="14750" y="14238"/>
                  <a:pt x="14986" y="14178"/>
                  <a:pt x="15230" y="14163"/>
                </a:cubicBezTo>
                <a:cubicBezTo>
                  <a:pt x="15422" y="14151"/>
                  <a:pt x="15443" y="14232"/>
                  <a:pt x="15478" y="14015"/>
                </a:cubicBezTo>
                <a:cubicBezTo>
                  <a:pt x="15478" y="13998"/>
                  <a:pt x="15478" y="13982"/>
                  <a:pt x="15478" y="139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59240" y="5286240"/>
            <a:ext cx="179640" cy="179640"/>
          </a:xfrm>
          <a:custGeom>
            <a:avLst/>
            <a:gdLst/>
            <a:ahLst/>
            <a:rect l="l" t="t" r="r" b="b"/>
            <a:pathLst>
              <a:path w="497" h="497">
                <a:moveTo>
                  <a:pt x="15032" y="14709"/>
                </a:moveTo>
                <a:cubicBezTo>
                  <a:pt x="14926" y="14689"/>
                  <a:pt x="14732" y="14619"/>
                  <a:pt x="14684" y="14759"/>
                </a:cubicBezTo>
                <a:cubicBezTo>
                  <a:pt x="14684" y="14851"/>
                  <a:pt x="14686" y="14877"/>
                  <a:pt x="14660" y="14932"/>
                </a:cubicBezTo>
                <a:cubicBezTo>
                  <a:pt x="14783" y="14920"/>
                  <a:pt x="14965" y="14833"/>
                  <a:pt x="15081" y="14908"/>
                </a:cubicBezTo>
                <a:cubicBezTo>
                  <a:pt x="15089" y="14933"/>
                  <a:pt x="15098" y="14957"/>
                  <a:pt x="15106" y="14982"/>
                </a:cubicBezTo>
                <a:cubicBezTo>
                  <a:pt x="15045" y="15165"/>
                  <a:pt x="14927" y="15180"/>
                  <a:pt x="14734" y="15156"/>
                </a:cubicBezTo>
                <a:cubicBezTo>
                  <a:pt x="14693" y="15148"/>
                  <a:pt x="14651" y="15139"/>
                  <a:pt x="14610" y="151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91080" y="5249880"/>
            <a:ext cx="125640" cy="198360"/>
          </a:xfrm>
          <a:custGeom>
            <a:avLst/>
            <a:gdLst/>
            <a:ahLst/>
            <a:rect l="l" t="t" r="r" b="b"/>
            <a:pathLst>
              <a:path w="348" h="547">
                <a:moveTo>
                  <a:pt x="15255" y="14660"/>
                </a:moveTo>
                <a:cubicBezTo>
                  <a:pt x="15364" y="14644"/>
                  <a:pt x="15469" y="14606"/>
                  <a:pt x="15577" y="14585"/>
                </a:cubicBezTo>
                <a:cubicBezTo>
                  <a:pt x="15585" y="14585"/>
                  <a:pt x="15594" y="14585"/>
                  <a:pt x="15602" y="14585"/>
                </a:cubicBezTo>
                <a:cubicBezTo>
                  <a:pt x="15593" y="14771"/>
                  <a:pt x="15568" y="14949"/>
                  <a:pt x="15528" y="151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43680" y="5045040"/>
            <a:ext cx="777600" cy="598680"/>
          </a:xfrm>
          <a:custGeom>
            <a:avLst/>
            <a:gdLst/>
            <a:ahLst/>
            <a:rect l="l" t="t" r="r" b="b"/>
            <a:pathLst>
              <a:path w="2159" h="1663">
                <a:moveTo>
                  <a:pt x="14585" y="15577"/>
                </a:moveTo>
                <a:cubicBezTo>
                  <a:pt x="15036" y="15598"/>
                  <a:pt x="15465" y="15571"/>
                  <a:pt x="15900" y="15429"/>
                </a:cubicBezTo>
                <a:cubicBezTo>
                  <a:pt x="16239" y="15318"/>
                  <a:pt x="16647" y="14864"/>
                  <a:pt x="16421" y="14461"/>
                </a:cubicBezTo>
                <a:cubicBezTo>
                  <a:pt x="16189" y="14048"/>
                  <a:pt x="15515" y="13938"/>
                  <a:pt x="15106" y="14064"/>
                </a:cubicBezTo>
                <a:cubicBezTo>
                  <a:pt x="14647" y="14205"/>
                  <a:pt x="14097" y="14835"/>
                  <a:pt x="14312" y="15354"/>
                </a:cubicBezTo>
                <a:cubicBezTo>
                  <a:pt x="14584" y="15626"/>
                  <a:pt x="14701" y="15714"/>
                  <a:pt x="15007" y="156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304920"/>
            <a:ext cx="8382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304920"/>
            <a:ext cx="8686800" cy="73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:  to identify patterns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rpret and write a rule for a one-operation function t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dentify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ing a function table, all we have to do is find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te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is being follow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we know about patter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show a relationship between objects/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operation would result in an incre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operation would result in a decre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01800" y="3884760"/>
            <a:ext cx="1305000" cy="98280"/>
          </a:xfrm>
          <a:custGeom>
            <a:avLst/>
            <a:gdLst/>
            <a:ahLst/>
            <a:rect l="l" t="t" r="r" b="b"/>
            <a:pathLst>
              <a:path w="3623" h="274">
                <a:moveTo>
                  <a:pt x="2828" y="10939"/>
                </a:moveTo>
                <a:cubicBezTo>
                  <a:pt x="2903" y="10944"/>
                  <a:pt x="2952" y="10946"/>
                  <a:pt x="3026" y="10964"/>
                </a:cubicBezTo>
                <a:cubicBezTo>
                  <a:pt x="3108" y="10983"/>
                  <a:pt x="3190" y="11004"/>
                  <a:pt x="3274" y="11013"/>
                </a:cubicBezTo>
                <a:cubicBezTo>
                  <a:pt x="3350" y="11021"/>
                  <a:pt x="3418" y="11024"/>
                  <a:pt x="3497" y="11038"/>
                </a:cubicBezTo>
                <a:cubicBezTo>
                  <a:pt x="3576" y="11052"/>
                  <a:pt x="3640" y="11063"/>
                  <a:pt x="3721" y="11063"/>
                </a:cubicBezTo>
                <a:cubicBezTo>
                  <a:pt x="3802" y="11063"/>
                  <a:pt x="3867" y="11045"/>
                  <a:pt x="3944" y="11038"/>
                </a:cubicBezTo>
                <a:cubicBezTo>
                  <a:pt x="4049" y="11028"/>
                  <a:pt x="4167" y="11021"/>
                  <a:pt x="4266" y="11013"/>
                </a:cubicBezTo>
                <a:cubicBezTo>
                  <a:pt x="4440" y="11000"/>
                  <a:pt x="4616" y="11004"/>
                  <a:pt x="4787" y="10988"/>
                </a:cubicBezTo>
                <a:cubicBezTo>
                  <a:pt x="4877" y="10980"/>
                  <a:pt x="4973" y="10971"/>
                  <a:pt x="5060" y="10964"/>
                </a:cubicBezTo>
                <a:cubicBezTo>
                  <a:pt x="5178" y="10955"/>
                  <a:pt x="5292" y="10952"/>
                  <a:pt x="5407" y="10939"/>
                </a:cubicBezTo>
                <a:cubicBezTo>
                  <a:pt x="5513" y="10927"/>
                  <a:pt x="5624" y="10925"/>
                  <a:pt x="5730" y="10914"/>
                </a:cubicBezTo>
                <a:cubicBezTo>
                  <a:pt x="5859" y="10901"/>
                  <a:pt x="5997" y="10914"/>
                  <a:pt x="6127" y="10914"/>
                </a:cubicBezTo>
                <a:cubicBezTo>
                  <a:pt x="6011" y="10869"/>
                  <a:pt x="5904" y="10820"/>
                  <a:pt x="5779" y="10815"/>
                </a:cubicBezTo>
                <a:cubicBezTo>
                  <a:pt x="5677" y="10811"/>
                  <a:pt x="5586" y="10790"/>
                  <a:pt x="5482" y="10790"/>
                </a:cubicBezTo>
                <a:cubicBezTo>
                  <a:pt x="5379" y="10790"/>
                  <a:pt x="5279" y="10807"/>
                  <a:pt x="5184" y="10815"/>
                </a:cubicBezTo>
                <a:cubicBezTo>
                  <a:pt x="5046" y="10827"/>
                  <a:pt x="4894" y="10831"/>
                  <a:pt x="4762" y="10840"/>
                </a:cubicBezTo>
                <a:cubicBezTo>
                  <a:pt x="4371" y="10868"/>
                  <a:pt x="3958" y="10848"/>
                  <a:pt x="3572" y="10815"/>
                </a:cubicBezTo>
                <a:cubicBezTo>
                  <a:pt x="3341" y="10796"/>
                  <a:pt x="3104" y="10821"/>
                  <a:pt x="2877" y="10840"/>
                </a:cubicBezTo>
                <a:cubicBezTo>
                  <a:pt x="2788" y="10847"/>
                  <a:pt x="2688" y="10857"/>
                  <a:pt x="2604" y="10864"/>
                </a:cubicBezTo>
                <a:cubicBezTo>
                  <a:pt x="2546" y="10864"/>
                  <a:pt x="2538" y="10864"/>
                  <a:pt x="2505" y="10864"/>
                </a:cubicBezTo>
                <a:cubicBezTo>
                  <a:pt x="2647" y="10919"/>
                  <a:pt x="2771" y="10976"/>
                  <a:pt x="2927" y="10988"/>
                </a:cubicBezTo>
                <a:cubicBezTo>
                  <a:pt x="3073" y="10999"/>
                  <a:pt x="3234" y="11003"/>
                  <a:pt x="3373" y="11013"/>
                </a:cubicBezTo>
                <a:cubicBezTo>
                  <a:pt x="3439" y="11013"/>
                  <a:pt x="3456" y="11013"/>
                  <a:pt x="3497" y="110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33800" y="3687840"/>
            <a:ext cx="1036440" cy="285840"/>
          </a:xfrm>
          <a:custGeom>
            <a:avLst/>
            <a:gdLst/>
            <a:ahLst/>
            <a:rect l="l" t="t" r="r" b="b"/>
            <a:pathLst>
              <a:path w="2879" h="795">
                <a:moveTo>
                  <a:pt x="9203" y="10344"/>
                </a:moveTo>
                <a:cubicBezTo>
                  <a:pt x="9225" y="10411"/>
                  <a:pt x="9229" y="10442"/>
                  <a:pt x="9252" y="10368"/>
                </a:cubicBezTo>
                <a:cubicBezTo>
                  <a:pt x="9300" y="10212"/>
                  <a:pt x="9205" y="10269"/>
                  <a:pt x="9054" y="10269"/>
                </a:cubicBezTo>
                <a:cubicBezTo>
                  <a:pt x="8883" y="10269"/>
                  <a:pt x="8841" y="10307"/>
                  <a:pt x="8806" y="10468"/>
                </a:cubicBezTo>
                <a:cubicBezTo>
                  <a:pt x="8917" y="10392"/>
                  <a:pt x="9005" y="10411"/>
                  <a:pt x="9128" y="10468"/>
                </a:cubicBezTo>
                <a:cubicBezTo>
                  <a:pt x="9206" y="10519"/>
                  <a:pt x="9232" y="10540"/>
                  <a:pt x="9227" y="10616"/>
                </a:cubicBezTo>
                <a:cubicBezTo>
                  <a:pt x="9073" y="10798"/>
                  <a:pt x="8948" y="10772"/>
                  <a:pt x="8706" y="10740"/>
                </a:cubicBezTo>
              </a:path>
              <a:path w="2879" h="795">
                <a:moveTo>
                  <a:pt x="10815" y="10294"/>
                </a:moveTo>
                <a:cubicBezTo>
                  <a:pt x="10811" y="10366"/>
                  <a:pt x="10718" y="10719"/>
                  <a:pt x="10765" y="10765"/>
                </a:cubicBezTo>
                <a:cubicBezTo>
                  <a:pt x="10782" y="10757"/>
                  <a:pt x="10798" y="10748"/>
                  <a:pt x="10815" y="10740"/>
                </a:cubicBezTo>
              </a:path>
              <a:path w="2879" h="795">
                <a:moveTo>
                  <a:pt x="11336" y="10244"/>
                </a:moveTo>
                <a:cubicBezTo>
                  <a:pt x="11277" y="10362"/>
                  <a:pt x="11150" y="10509"/>
                  <a:pt x="11137" y="10641"/>
                </a:cubicBezTo>
                <a:cubicBezTo>
                  <a:pt x="11145" y="10674"/>
                  <a:pt x="11154" y="10707"/>
                  <a:pt x="11162" y="10740"/>
                </a:cubicBezTo>
                <a:cubicBezTo>
                  <a:pt x="11361" y="10762"/>
                  <a:pt x="11555" y="10745"/>
                  <a:pt x="11584" y="10492"/>
                </a:cubicBezTo>
                <a:cubicBezTo>
                  <a:pt x="11603" y="10327"/>
                  <a:pt x="11545" y="10335"/>
                  <a:pt x="11435" y="10294"/>
                </a:cubicBezTo>
              </a:path>
              <a:path w="2879" h="795">
                <a:moveTo>
                  <a:pt x="10120" y="10765"/>
                </a:moveTo>
                <a:cubicBezTo>
                  <a:pt x="10144" y="10908"/>
                  <a:pt x="10155" y="10952"/>
                  <a:pt x="10096" y="110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92080" y="5313240"/>
            <a:ext cx="1287720" cy="61920"/>
          </a:xfrm>
          <a:custGeom>
            <a:avLst/>
            <a:gdLst/>
            <a:ahLst/>
            <a:rect l="l" t="t" r="r" b="b"/>
            <a:pathLst>
              <a:path w="3573" h="174">
                <a:moveTo>
                  <a:pt x="2480" y="14932"/>
                </a:moveTo>
                <a:cubicBezTo>
                  <a:pt x="2562" y="14914"/>
                  <a:pt x="2611" y="14887"/>
                  <a:pt x="2679" y="14883"/>
                </a:cubicBezTo>
                <a:cubicBezTo>
                  <a:pt x="2746" y="14879"/>
                  <a:pt x="2817" y="14863"/>
                  <a:pt x="2877" y="14858"/>
                </a:cubicBezTo>
                <a:cubicBezTo>
                  <a:pt x="3117" y="14839"/>
                  <a:pt x="3360" y="14860"/>
                  <a:pt x="3597" y="14833"/>
                </a:cubicBezTo>
                <a:cubicBezTo>
                  <a:pt x="3964" y="14792"/>
                  <a:pt x="4346" y="14844"/>
                  <a:pt x="4713" y="14808"/>
                </a:cubicBezTo>
                <a:cubicBezTo>
                  <a:pt x="4806" y="14799"/>
                  <a:pt x="4896" y="14787"/>
                  <a:pt x="4986" y="14784"/>
                </a:cubicBezTo>
                <a:cubicBezTo>
                  <a:pt x="5096" y="14781"/>
                  <a:pt x="5197" y="14762"/>
                  <a:pt x="5308" y="14759"/>
                </a:cubicBezTo>
                <a:cubicBezTo>
                  <a:pt x="5555" y="14752"/>
                  <a:pt x="5804" y="14759"/>
                  <a:pt x="6052" y="147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03720" y="5153040"/>
            <a:ext cx="339480" cy="204840"/>
          </a:xfrm>
          <a:custGeom>
            <a:avLst/>
            <a:gdLst/>
            <a:ahLst/>
            <a:rect l="l" t="t" r="r" b="b"/>
            <a:pathLst>
              <a:path w="943" h="572">
                <a:moveTo>
                  <a:pt x="9203" y="14461"/>
                </a:moveTo>
                <a:cubicBezTo>
                  <a:pt x="9195" y="14436"/>
                  <a:pt x="9186" y="14412"/>
                  <a:pt x="9178" y="14387"/>
                </a:cubicBezTo>
                <a:cubicBezTo>
                  <a:pt x="9227" y="14546"/>
                  <a:pt x="9259" y="14717"/>
                  <a:pt x="9277" y="14883"/>
                </a:cubicBezTo>
              </a:path>
              <a:path w="943" h="572">
                <a:moveTo>
                  <a:pt x="9823" y="14362"/>
                </a:moveTo>
                <a:cubicBezTo>
                  <a:pt x="9815" y="14345"/>
                  <a:pt x="9806" y="14329"/>
                  <a:pt x="9798" y="14312"/>
                </a:cubicBezTo>
                <a:cubicBezTo>
                  <a:pt x="9697" y="14370"/>
                  <a:pt x="9680" y="14524"/>
                  <a:pt x="9674" y="14660"/>
                </a:cubicBezTo>
                <a:cubicBezTo>
                  <a:pt x="9668" y="14791"/>
                  <a:pt x="9701" y="14922"/>
                  <a:pt x="9872" y="14883"/>
                </a:cubicBezTo>
                <a:cubicBezTo>
                  <a:pt x="9991" y="14856"/>
                  <a:pt x="10125" y="14774"/>
                  <a:pt x="10120" y="14635"/>
                </a:cubicBezTo>
                <a:cubicBezTo>
                  <a:pt x="10117" y="14546"/>
                  <a:pt x="10035" y="14418"/>
                  <a:pt x="9971" y="14362"/>
                </a:cubicBezTo>
                <a:cubicBezTo>
                  <a:pt x="9905" y="14304"/>
                  <a:pt x="9819" y="14353"/>
                  <a:pt x="9748" y="143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39960" y="4419720"/>
            <a:ext cx="411120" cy="536400"/>
          </a:xfrm>
          <a:custGeom>
            <a:avLst/>
            <a:gdLst/>
            <a:ahLst/>
            <a:rect l="l" t="t" r="r" b="b"/>
            <a:pathLst>
              <a:path w="1142" h="1490">
                <a:moveTo>
                  <a:pt x="5110" y="12551"/>
                </a:moveTo>
                <a:cubicBezTo>
                  <a:pt x="5321" y="12551"/>
                  <a:pt x="5521" y="12537"/>
                  <a:pt x="5730" y="12502"/>
                </a:cubicBezTo>
                <a:cubicBezTo>
                  <a:pt x="5817" y="12487"/>
                  <a:pt x="5870" y="12477"/>
                  <a:pt x="5953" y="12477"/>
                </a:cubicBezTo>
              </a:path>
              <a:path w="1142" h="1490">
                <a:moveTo>
                  <a:pt x="5705" y="12278"/>
                </a:moveTo>
                <a:cubicBezTo>
                  <a:pt x="5817" y="12343"/>
                  <a:pt x="5935" y="12393"/>
                  <a:pt x="6052" y="12452"/>
                </a:cubicBezTo>
                <a:cubicBezTo>
                  <a:pt x="6002" y="12594"/>
                  <a:pt x="5939" y="12679"/>
                  <a:pt x="5854" y="12799"/>
                </a:cubicBezTo>
              </a:path>
              <a:path w="1142" h="1490">
                <a:moveTo>
                  <a:pt x="5283" y="13469"/>
                </a:moveTo>
                <a:cubicBezTo>
                  <a:pt x="5403" y="13485"/>
                  <a:pt x="5505" y="13469"/>
                  <a:pt x="5631" y="13469"/>
                </a:cubicBezTo>
                <a:cubicBezTo>
                  <a:pt x="5734" y="13469"/>
                  <a:pt x="5840" y="13462"/>
                  <a:pt x="5928" y="13444"/>
                </a:cubicBezTo>
                <a:cubicBezTo>
                  <a:pt x="5970" y="13444"/>
                  <a:pt x="5978" y="13444"/>
                  <a:pt x="6003" y="13444"/>
                </a:cubicBezTo>
              </a:path>
              <a:path w="1142" h="1490">
                <a:moveTo>
                  <a:pt x="5928" y="13196"/>
                </a:moveTo>
                <a:cubicBezTo>
                  <a:pt x="6019" y="13332"/>
                  <a:pt x="6091" y="13364"/>
                  <a:pt x="6226" y="13444"/>
                </a:cubicBezTo>
                <a:cubicBezTo>
                  <a:pt x="6319" y="13499"/>
                  <a:pt x="6140" y="13693"/>
                  <a:pt x="6102" y="13742"/>
                </a:cubicBezTo>
                <a:cubicBezTo>
                  <a:pt x="6094" y="13750"/>
                  <a:pt x="6085" y="13759"/>
                  <a:pt x="6077" y="137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30240" y="5884920"/>
            <a:ext cx="322560" cy="455400"/>
          </a:xfrm>
          <a:custGeom>
            <a:avLst/>
            <a:gdLst/>
            <a:ahLst/>
            <a:rect l="l" t="t" r="r" b="b"/>
            <a:pathLst>
              <a:path w="894" h="1266">
                <a:moveTo>
                  <a:pt x="5085" y="16520"/>
                </a:moveTo>
                <a:cubicBezTo>
                  <a:pt x="5218" y="16508"/>
                  <a:pt x="5342" y="16495"/>
                  <a:pt x="5482" y="16495"/>
                </a:cubicBezTo>
                <a:cubicBezTo>
                  <a:pt x="5605" y="16495"/>
                  <a:pt x="5714" y="16497"/>
                  <a:pt x="5829" y="16520"/>
                </a:cubicBezTo>
              </a:path>
              <a:path w="894" h="1266">
                <a:moveTo>
                  <a:pt x="5655" y="16346"/>
                </a:moveTo>
                <a:cubicBezTo>
                  <a:pt x="5733" y="16390"/>
                  <a:pt x="5941" y="16445"/>
                  <a:pt x="5978" y="16520"/>
                </a:cubicBezTo>
                <a:cubicBezTo>
                  <a:pt x="6035" y="16634"/>
                  <a:pt x="5819" y="16797"/>
                  <a:pt x="5755" y="16867"/>
                </a:cubicBezTo>
              </a:path>
              <a:path w="894" h="1266">
                <a:moveTo>
                  <a:pt x="5308" y="17388"/>
                </a:moveTo>
                <a:cubicBezTo>
                  <a:pt x="5457" y="17388"/>
                  <a:pt x="5606" y="17388"/>
                  <a:pt x="5755" y="17388"/>
                </a:cubicBezTo>
              </a:path>
              <a:path w="894" h="1266">
                <a:moveTo>
                  <a:pt x="5606" y="17214"/>
                </a:moveTo>
                <a:cubicBezTo>
                  <a:pt x="5709" y="17257"/>
                  <a:pt x="5803" y="17313"/>
                  <a:pt x="5904" y="17363"/>
                </a:cubicBezTo>
                <a:cubicBezTo>
                  <a:pt x="5836" y="17464"/>
                  <a:pt x="5746" y="17530"/>
                  <a:pt x="5655" y="176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10040" y="4402080"/>
            <a:ext cx="249120" cy="179280"/>
          </a:xfrm>
          <a:custGeom>
            <a:avLst/>
            <a:gdLst/>
            <a:ahLst/>
            <a:rect l="l" t="t" r="r" b="b"/>
            <a:pathLst>
              <a:path w="696" h="497">
                <a:moveTo>
                  <a:pt x="11559" y="12229"/>
                </a:moveTo>
                <a:cubicBezTo>
                  <a:pt x="11559" y="12397"/>
                  <a:pt x="11570" y="12559"/>
                  <a:pt x="11584" y="12725"/>
                </a:cubicBezTo>
              </a:path>
              <a:path w="696" h="497">
                <a:moveTo>
                  <a:pt x="11137" y="12526"/>
                </a:moveTo>
                <a:cubicBezTo>
                  <a:pt x="11328" y="12511"/>
                  <a:pt x="11517" y="12468"/>
                  <a:pt x="11708" y="12452"/>
                </a:cubicBezTo>
                <a:cubicBezTo>
                  <a:pt x="11782" y="12452"/>
                  <a:pt x="11791" y="12452"/>
                  <a:pt x="11832" y="124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13160" y="4759200"/>
            <a:ext cx="196920" cy="189000"/>
          </a:xfrm>
          <a:custGeom>
            <a:avLst/>
            <a:gdLst/>
            <a:ahLst/>
            <a:rect l="l" t="t" r="r" b="b"/>
            <a:pathLst>
              <a:path w="546" h="522">
                <a:moveTo>
                  <a:pt x="12030" y="13246"/>
                </a:moveTo>
                <a:cubicBezTo>
                  <a:pt x="12132" y="13377"/>
                  <a:pt x="12249" y="13511"/>
                  <a:pt x="12378" y="13618"/>
                </a:cubicBezTo>
                <a:cubicBezTo>
                  <a:pt x="12403" y="13634"/>
                  <a:pt x="12427" y="13651"/>
                  <a:pt x="12452" y="13667"/>
                </a:cubicBezTo>
              </a:path>
              <a:path w="546" h="522">
                <a:moveTo>
                  <a:pt x="12526" y="13221"/>
                </a:moveTo>
                <a:cubicBezTo>
                  <a:pt x="12395" y="13298"/>
                  <a:pt x="12272" y="13433"/>
                  <a:pt x="12154" y="13543"/>
                </a:cubicBezTo>
                <a:cubicBezTo>
                  <a:pt x="12083" y="13609"/>
                  <a:pt x="12029" y="13663"/>
                  <a:pt x="11981" y="137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60880" y="5205240"/>
            <a:ext cx="196920" cy="189000"/>
          </a:xfrm>
          <a:custGeom>
            <a:avLst/>
            <a:gdLst/>
            <a:ahLst/>
            <a:rect l="l" t="t" r="r" b="b"/>
            <a:pathLst>
              <a:path w="547" h="522">
                <a:moveTo>
                  <a:pt x="11881" y="14461"/>
                </a:moveTo>
                <a:cubicBezTo>
                  <a:pt x="11818" y="14467"/>
                  <a:pt x="11701" y="14465"/>
                  <a:pt x="11683" y="14511"/>
                </a:cubicBezTo>
                <a:cubicBezTo>
                  <a:pt x="11654" y="14586"/>
                  <a:pt x="11735" y="14711"/>
                  <a:pt x="11658" y="14734"/>
                </a:cubicBezTo>
                <a:cubicBezTo>
                  <a:pt x="11625" y="14734"/>
                  <a:pt x="11592" y="14734"/>
                  <a:pt x="11559" y="14734"/>
                </a:cubicBezTo>
                <a:cubicBezTo>
                  <a:pt x="11695" y="14712"/>
                  <a:pt x="11894" y="14641"/>
                  <a:pt x="12030" y="14709"/>
                </a:cubicBezTo>
                <a:cubicBezTo>
                  <a:pt x="12143" y="14766"/>
                  <a:pt x="12105" y="14908"/>
                  <a:pt x="12005" y="14957"/>
                </a:cubicBezTo>
                <a:cubicBezTo>
                  <a:pt x="11894" y="15011"/>
                  <a:pt x="11769" y="14979"/>
                  <a:pt x="11658" y="149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03800" y="5946840"/>
            <a:ext cx="233280" cy="9360"/>
          </a:xfrm>
          <a:custGeom>
            <a:avLst/>
            <a:gdLst/>
            <a:ahLst/>
            <a:rect l="l" t="t" r="r" b="b"/>
            <a:pathLst>
              <a:path w="646" h="26">
                <a:moveTo>
                  <a:pt x="11956" y="16520"/>
                </a:moveTo>
                <a:cubicBezTo>
                  <a:pt x="12161" y="16554"/>
                  <a:pt x="12367" y="16545"/>
                  <a:pt x="12576" y="16545"/>
                </a:cubicBezTo>
                <a:cubicBezTo>
                  <a:pt x="12584" y="16545"/>
                  <a:pt x="12593" y="16545"/>
                  <a:pt x="12601" y="165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86160" y="6081840"/>
            <a:ext cx="241560" cy="222120"/>
          </a:xfrm>
          <a:custGeom>
            <a:avLst/>
            <a:gdLst/>
            <a:ahLst/>
            <a:rect l="l" t="t" r="r" b="b"/>
            <a:pathLst>
              <a:path w="671" h="621">
                <a:moveTo>
                  <a:pt x="11906" y="17264"/>
                </a:moveTo>
                <a:cubicBezTo>
                  <a:pt x="12076" y="17225"/>
                  <a:pt x="12251" y="17218"/>
                  <a:pt x="12427" y="17214"/>
                </a:cubicBezTo>
                <a:cubicBezTo>
                  <a:pt x="12510" y="17214"/>
                  <a:pt x="12526" y="17214"/>
                  <a:pt x="12576" y="17214"/>
                </a:cubicBezTo>
              </a:path>
              <a:path w="671" h="621">
                <a:moveTo>
                  <a:pt x="12328" y="16991"/>
                </a:moveTo>
                <a:cubicBezTo>
                  <a:pt x="12278" y="17016"/>
                  <a:pt x="12262" y="17024"/>
                  <a:pt x="12254" y="17066"/>
                </a:cubicBezTo>
                <a:cubicBezTo>
                  <a:pt x="12333" y="17008"/>
                  <a:pt x="12253" y="16827"/>
                  <a:pt x="12179" y="16892"/>
                </a:cubicBezTo>
                <a:cubicBezTo>
                  <a:pt x="12171" y="16933"/>
                  <a:pt x="12162" y="16975"/>
                  <a:pt x="12154" y="17016"/>
                </a:cubicBezTo>
              </a:path>
              <a:path w="671" h="621">
                <a:moveTo>
                  <a:pt x="12378" y="17388"/>
                </a:moveTo>
                <a:cubicBezTo>
                  <a:pt x="12299" y="17404"/>
                  <a:pt x="12261" y="17455"/>
                  <a:pt x="12204" y="17512"/>
                </a:cubicBezTo>
                <a:cubicBezTo>
                  <a:pt x="12283" y="17494"/>
                  <a:pt x="12416" y="17464"/>
                  <a:pt x="12254" y="174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380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152280"/>
            <a:ext cx="853416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Practi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2, 40, 38, 36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le: The pattern begins with the number  ____    and continues by ___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 3, 9, 27, 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____ 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le: The pattern begins with the number  ____   and continues by ____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0, 400, 200, ____ , 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, 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le: The pattern begins with the number  ____   and continues by ____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, 6, 9, ____ , ____ 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le: The pattern begins with the number  ____   and continues by ____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 2, 4, 7, ____ , ____ 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le: The pattern begins with the number  ____   and continues by ____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11920" y="4919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6421" y="13667"/>
                </a:moveTo>
                <a:lnTo>
                  <a:pt x="16421" y="13667"/>
                </a:lnTo>
              </a:path>
              <a:path w="1" h="1">
                <a:moveTo>
                  <a:pt x="16421" y="13667"/>
                </a:moveTo>
                <a:lnTo>
                  <a:pt x="16421" y="13667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97200" y="820800"/>
            <a:ext cx="241560" cy="162000"/>
          </a:xfrm>
          <a:custGeom>
            <a:avLst/>
            <a:gdLst/>
            <a:ahLst/>
            <a:rect l="l" t="t" r="r" b="b"/>
            <a:pathLst>
              <a:path w="671" h="448">
                <a:moveTo>
                  <a:pt x="10269" y="2431"/>
                </a:moveTo>
                <a:cubicBezTo>
                  <a:pt x="10297" y="2391"/>
                  <a:pt x="10448" y="2238"/>
                  <a:pt x="10492" y="2381"/>
                </a:cubicBezTo>
                <a:cubicBezTo>
                  <a:pt x="10522" y="2477"/>
                  <a:pt x="10425" y="2523"/>
                  <a:pt x="10368" y="2580"/>
                </a:cubicBezTo>
                <a:cubicBezTo>
                  <a:pt x="10506" y="2559"/>
                  <a:pt x="10501" y="2563"/>
                  <a:pt x="10517" y="2704"/>
                </a:cubicBezTo>
                <a:cubicBezTo>
                  <a:pt x="10417" y="2727"/>
                  <a:pt x="10325" y="2772"/>
                  <a:pt x="10294" y="2679"/>
                </a:cubicBezTo>
              </a:path>
              <a:path w="671" h="448">
                <a:moveTo>
                  <a:pt x="10666" y="2406"/>
                </a:moveTo>
                <a:cubicBezTo>
                  <a:pt x="10693" y="2487"/>
                  <a:pt x="10670" y="2625"/>
                  <a:pt x="10790" y="2629"/>
                </a:cubicBezTo>
                <a:cubicBezTo>
                  <a:pt x="10885" y="2605"/>
                  <a:pt x="10915" y="2600"/>
                  <a:pt x="10939" y="2530"/>
                </a:cubicBezTo>
              </a:path>
              <a:path w="671" h="448">
                <a:moveTo>
                  <a:pt x="10815" y="2282"/>
                </a:moveTo>
                <a:cubicBezTo>
                  <a:pt x="10801" y="2429"/>
                  <a:pt x="10812" y="2531"/>
                  <a:pt x="10840" y="26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60880" y="839880"/>
            <a:ext cx="322200" cy="160200"/>
          </a:xfrm>
          <a:custGeom>
            <a:avLst/>
            <a:gdLst/>
            <a:ahLst/>
            <a:rect l="l" t="t" r="r" b="b"/>
            <a:pathLst>
              <a:path w="894" h="447">
                <a:moveTo>
                  <a:pt x="11683" y="2431"/>
                </a:moveTo>
                <a:cubicBezTo>
                  <a:pt x="11730" y="2407"/>
                  <a:pt x="11921" y="2287"/>
                  <a:pt x="11881" y="2456"/>
                </a:cubicBezTo>
                <a:cubicBezTo>
                  <a:pt x="11830" y="2534"/>
                  <a:pt x="11809" y="2559"/>
                  <a:pt x="11733" y="2555"/>
                </a:cubicBezTo>
                <a:cubicBezTo>
                  <a:pt x="11855" y="2555"/>
                  <a:pt x="11886" y="2537"/>
                  <a:pt x="11931" y="2604"/>
                </a:cubicBezTo>
                <a:cubicBezTo>
                  <a:pt x="11892" y="2763"/>
                  <a:pt x="11733" y="2847"/>
                  <a:pt x="11559" y="2753"/>
                </a:cubicBezTo>
                <a:cubicBezTo>
                  <a:pt x="11559" y="2737"/>
                  <a:pt x="11559" y="2720"/>
                  <a:pt x="11559" y="2704"/>
                </a:cubicBezTo>
              </a:path>
              <a:path w="894" h="447">
                <a:moveTo>
                  <a:pt x="12204" y="2332"/>
                </a:moveTo>
                <a:cubicBezTo>
                  <a:pt x="12322" y="2348"/>
                  <a:pt x="12417" y="2373"/>
                  <a:pt x="12452" y="2505"/>
                </a:cubicBezTo>
                <a:cubicBezTo>
                  <a:pt x="12510" y="2724"/>
                  <a:pt x="12233" y="2721"/>
                  <a:pt x="12105" y="2704"/>
                </a:cubicBezTo>
                <a:cubicBezTo>
                  <a:pt x="12224" y="2678"/>
                  <a:pt x="12310" y="2691"/>
                  <a:pt x="12427" y="27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02120" y="839880"/>
            <a:ext cx="304920" cy="152280"/>
          </a:xfrm>
          <a:custGeom>
            <a:avLst/>
            <a:gdLst/>
            <a:ahLst/>
            <a:rect l="l" t="t" r="r" b="b"/>
            <a:pathLst>
              <a:path w="844" h="422">
                <a:moveTo>
                  <a:pt x="13643" y="2431"/>
                </a:moveTo>
                <a:cubicBezTo>
                  <a:pt x="13664" y="2396"/>
                  <a:pt x="13776" y="2284"/>
                  <a:pt x="13841" y="2332"/>
                </a:cubicBezTo>
                <a:cubicBezTo>
                  <a:pt x="13924" y="2393"/>
                  <a:pt x="13807" y="2490"/>
                  <a:pt x="13767" y="2530"/>
                </a:cubicBezTo>
                <a:cubicBezTo>
                  <a:pt x="13873" y="2565"/>
                  <a:pt x="13901" y="2568"/>
                  <a:pt x="13965" y="2654"/>
                </a:cubicBezTo>
                <a:cubicBezTo>
                  <a:pt x="13845" y="2731"/>
                  <a:pt x="13759" y="2743"/>
                  <a:pt x="13618" y="2704"/>
                </a:cubicBezTo>
              </a:path>
              <a:path w="844" h="422">
                <a:moveTo>
                  <a:pt x="14213" y="2406"/>
                </a:moveTo>
                <a:cubicBezTo>
                  <a:pt x="14139" y="2492"/>
                  <a:pt x="14113" y="2552"/>
                  <a:pt x="14064" y="2654"/>
                </a:cubicBezTo>
                <a:cubicBezTo>
                  <a:pt x="14177" y="2757"/>
                  <a:pt x="14329" y="2804"/>
                  <a:pt x="14436" y="2629"/>
                </a:cubicBezTo>
                <a:cubicBezTo>
                  <a:pt x="14543" y="2454"/>
                  <a:pt x="14293" y="2419"/>
                  <a:pt x="14188" y="24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62680" y="1366920"/>
            <a:ext cx="304560" cy="214200"/>
          </a:xfrm>
          <a:custGeom>
            <a:avLst/>
            <a:gdLst/>
            <a:ahLst/>
            <a:rect l="l" t="t" r="r" b="b"/>
            <a:pathLst>
              <a:path w="845" h="596">
                <a:moveTo>
                  <a:pt x="14188" y="3870"/>
                </a:moveTo>
                <a:cubicBezTo>
                  <a:pt x="14122" y="4002"/>
                  <a:pt x="14105" y="4035"/>
                  <a:pt x="14064" y="4118"/>
                </a:cubicBezTo>
                <a:cubicBezTo>
                  <a:pt x="14160" y="4135"/>
                  <a:pt x="14239" y="4142"/>
                  <a:pt x="14337" y="4142"/>
                </a:cubicBezTo>
              </a:path>
              <a:path w="845" h="596">
                <a:moveTo>
                  <a:pt x="14387" y="3845"/>
                </a:moveTo>
                <a:cubicBezTo>
                  <a:pt x="14361" y="4000"/>
                  <a:pt x="14358" y="4161"/>
                  <a:pt x="14337" y="4316"/>
                </a:cubicBezTo>
                <a:cubicBezTo>
                  <a:pt x="14329" y="4341"/>
                  <a:pt x="14320" y="4365"/>
                  <a:pt x="14312" y="4390"/>
                </a:cubicBezTo>
              </a:path>
              <a:path w="845" h="596">
                <a:moveTo>
                  <a:pt x="14536" y="3944"/>
                </a:moveTo>
                <a:cubicBezTo>
                  <a:pt x="14605" y="3859"/>
                  <a:pt x="14633" y="3838"/>
                  <a:pt x="14734" y="3795"/>
                </a:cubicBezTo>
                <a:cubicBezTo>
                  <a:pt x="14797" y="3914"/>
                  <a:pt x="14831" y="3985"/>
                  <a:pt x="14709" y="4093"/>
                </a:cubicBezTo>
                <a:cubicBezTo>
                  <a:pt x="14599" y="4190"/>
                  <a:pt x="14498" y="4271"/>
                  <a:pt x="14412" y="4390"/>
                </a:cubicBezTo>
                <a:cubicBezTo>
                  <a:pt x="14466" y="4336"/>
                  <a:pt x="14551" y="4190"/>
                  <a:pt x="14635" y="4266"/>
                </a:cubicBezTo>
                <a:cubicBezTo>
                  <a:pt x="14741" y="4362"/>
                  <a:pt x="14759" y="4379"/>
                  <a:pt x="14908" y="43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78000" y="1608120"/>
            <a:ext cx="314280" cy="258840"/>
          </a:xfrm>
          <a:custGeom>
            <a:avLst/>
            <a:gdLst/>
            <a:ahLst/>
            <a:rect l="l" t="t" r="r" b="b"/>
            <a:pathLst>
              <a:path w="870" h="720">
                <a:moveTo>
                  <a:pt x="6052" y="4812"/>
                </a:moveTo>
                <a:cubicBezTo>
                  <a:pt x="6121" y="4772"/>
                  <a:pt x="6195" y="4758"/>
                  <a:pt x="6276" y="4738"/>
                </a:cubicBezTo>
              </a:path>
              <a:path w="870" h="720">
                <a:moveTo>
                  <a:pt x="6524" y="4614"/>
                </a:moveTo>
                <a:cubicBezTo>
                  <a:pt x="6545" y="4540"/>
                  <a:pt x="6611" y="4496"/>
                  <a:pt x="6697" y="4465"/>
                </a:cubicBezTo>
                <a:cubicBezTo>
                  <a:pt x="6813" y="4424"/>
                  <a:pt x="6780" y="4635"/>
                  <a:pt x="6772" y="4663"/>
                </a:cubicBezTo>
                <a:cubicBezTo>
                  <a:pt x="6752" y="4730"/>
                  <a:pt x="6692" y="4812"/>
                  <a:pt x="6648" y="4862"/>
                </a:cubicBezTo>
                <a:cubicBezTo>
                  <a:pt x="6576" y="4945"/>
                  <a:pt x="6498" y="5022"/>
                  <a:pt x="6474" y="5135"/>
                </a:cubicBezTo>
                <a:cubicBezTo>
                  <a:pt x="6474" y="5151"/>
                  <a:pt x="6474" y="5168"/>
                  <a:pt x="6474" y="5184"/>
                </a:cubicBezTo>
                <a:cubicBezTo>
                  <a:pt x="6552" y="5097"/>
                  <a:pt x="6575" y="5044"/>
                  <a:pt x="6697" y="5035"/>
                </a:cubicBezTo>
                <a:cubicBezTo>
                  <a:pt x="6756" y="5031"/>
                  <a:pt x="6848" y="5103"/>
                  <a:pt x="6921" y="51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1919160"/>
            <a:ext cx="250920" cy="216000"/>
          </a:xfrm>
          <a:custGeom>
            <a:avLst/>
            <a:gdLst/>
            <a:ahLst/>
            <a:rect l="l" t="t" r="r" b="b"/>
            <a:pathLst>
              <a:path w="696" h="596">
                <a:moveTo>
                  <a:pt x="9922" y="5407"/>
                </a:moveTo>
                <a:cubicBezTo>
                  <a:pt x="9814" y="5319"/>
                  <a:pt x="9725" y="5325"/>
                  <a:pt x="9599" y="5407"/>
                </a:cubicBezTo>
                <a:cubicBezTo>
                  <a:pt x="9544" y="5463"/>
                  <a:pt x="9519" y="5461"/>
                  <a:pt x="9525" y="5507"/>
                </a:cubicBezTo>
                <a:cubicBezTo>
                  <a:pt x="9610" y="5543"/>
                  <a:pt x="10057" y="5646"/>
                  <a:pt x="9922" y="5804"/>
                </a:cubicBezTo>
                <a:cubicBezTo>
                  <a:pt x="9818" y="5867"/>
                  <a:pt x="9800" y="5892"/>
                  <a:pt x="9723" y="5879"/>
                </a:cubicBezTo>
                <a:cubicBezTo>
                  <a:pt x="9731" y="5730"/>
                  <a:pt x="9747" y="5598"/>
                  <a:pt x="9798" y="5457"/>
                </a:cubicBezTo>
              </a:path>
              <a:path w="696" h="596">
                <a:moveTo>
                  <a:pt x="10120" y="5383"/>
                </a:moveTo>
                <a:cubicBezTo>
                  <a:pt x="10183" y="5581"/>
                  <a:pt x="10212" y="5721"/>
                  <a:pt x="10220" y="59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52960" y="1901880"/>
            <a:ext cx="438120" cy="233280"/>
          </a:xfrm>
          <a:custGeom>
            <a:avLst/>
            <a:gdLst/>
            <a:ahLst/>
            <a:rect l="l" t="t" r="r" b="b"/>
            <a:pathLst>
              <a:path w="1217" h="646">
                <a:moveTo>
                  <a:pt x="11584" y="5358"/>
                </a:moveTo>
                <a:cubicBezTo>
                  <a:pt x="11748" y="5339"/>
                  <a:pt x="11778" y="5310"/>
                  <a:pt x="11931" y="5383"/>
                </a:cubicBezTo>
                <a:cubicBezTo>
                  <a:pt x="11906" y="5579"/>
                  <a:pt x="11853" y="5871"/>
                  <a:pt x="11584" y="5879"/>
                </a:cubicBezTo>
                <a:cubicBezTo>
                  <a:pt x="11567" y="5862"/>
                  <a:pt x="11551" y="5846"/>
                  <a:pt x="11534" y="5829"/>
                </a:cubicBezTo>
                <a:cubicBezTo>
                  <a:pt x="11586" y="5674"/>
                  <a:pt x="11652" y="5574"/>
                  <a:pt x="11832" y="5705"/>
                </a:cubicBezTo>
                <a:cubicBezTo>
                  <a:pt x="11875" y="5770"/>
                  <a:pt x="11886" y="5785"/>
                  <a:pt x="11906" y="5829"/>
                </a:cubicBezTo>
              </a:path>
              <a:path w="1217" h="646">
                <a:moveTo>
                  <a:pt x="12005" y="5407"/>
                </a:moveTo>
                <a:cubicBezTo>
                  <a:pt x="12005" y="5506"/>
                  <a:pt x="12005" y="5606"/>
                  <a:pt x="12005" y="5705"/>
                </a:cubicBezTo>
                <a:cubicBezTo>
                  <a:pt x="12161" y="5713"/>
                  <a:pt x="12207" y="5699"/>
                  <a:pt x="12353" y="5631"/>
                </a:cubicBezTo>
              </a:path>
              <a:path w="1217" h="646">
                <a:moveTo>
                  <a:pt x="12278" y="5333"/>
                </a:moveTo>
                <a:cubicBezTo>
                  <a:pt x="12278" y="5531"/>
                  <a:pt x="12278" y="5730"/>
                  <a:pt x="12278" y="5928"/>
                </a:cubicBezTo>
              </a:path>
              <a:path w="1217" h="646">
                <a:moveTo>
                  <a:pt x="12551" y="5358"/>
                </a:moveTo>
                <a:cubicBezTo>
                  <a:pt x="12584" y="5325"/>
                  <a:pt x="12767" y="5219"/>
                  <a:pt x="12725" y="5358"/>
                </a:cubicBezTo>
                <a:cubicBezTo>
                  <a:pt x="12678" y="5451"/>
                  <a:pt x="12668" y="5480"/>
                  <a:pt x="12601" y="5507"/>
                </a:cubicBezTo>
                <a:cubicBezTo>
                  <a:pt x="12749" y="5559"/>
                  <a:pt x="12824" y="5644"/>
                  <a:pt x="12700" y="5804"/>
                </a:cubicBezTo>
                <a:cubicBezTo>
                  <a:pt x="12637" y="5847"/>
                  <a:pt x="12625" y="5863"/>
                  <a:pt x="12576" y="58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02120" y="1893960"/>
            <a:ext cx="509760" cy="285840"/>
          </a:xfrm>
          <a:custGeom>
            <a:avLst/>
            <a:gdLst/>
            <a:ahLst/>
            <a:rect l="l" t="t" r="r" b="b"/>
            <a:pathLst>
              <a:path w="1415" h="794">
                <a:moveTo>
                  <a:pt x="13618" y="5407"/>
                </a:moveTo>
                <a:cubicBezTo>
                  <a:pt x="13714" y="5456"/>
                  <a:pt x="13771" y="5373"/>
                  <a:pt x="13915" y="5358"/>
                </a:cubicBezTo>
                <a:cubicBezTo>
                  <a:pt x="13998" y="5358"/>
                  <a:pt x="14014" y="5358"/>
                  <a:pt x="14064" y="5358"/>
                </a:cubicBezTo>
                <a:cubicBezTo>
                  <a:pt x="14073" y="5610"/>
                  <a:pt x="14035" y="5815"/>
                  <a:pt x="13940" y="6052"/>
                </a:cubicBezTo>
              </a:path>
              <a:path w="1415" h="794">
                <a:moveTo>
                  <a:pt x="14436" y="5407"/>
                </a:moveTo>
                <a:cubicBezTo>
                  <a:pt x="14404" y="5474"/>
                  <a:pt x="14404" y="5474"/>
                  <a:pt x="14461" y="5358"/>
                </a:cubicBezTo>
                <a:cubicBezTo>
                  <a:pt x="14550" y="5599"/>
                  <a:pt x="14486" y="5766"/>
                  <a:pt x="14238" y="5904"/>
                </a:cubicBezTo>
                <a:cubicBezTo>
                  <a:pt x="14221" y="5904"/>
                  <a:pt x="14205" y="5904"/>
                  <a:pt x="14188" y="5904"/>
                </a:cubicBezTo>
                <a:cubicBezTo>
                  <a:pt x="14213" y="5778"/>
                  <a:pt x="14364" y="5589"/>
                  <a:pt x="14486" y="5804"/>
                </a:cubicBezTo>
                <a:cubicBezTo>
                  <a:pt x="14507" y="5928"/>
                  <a:pt x="14515" y="5952"/>
                  <a:pt x="14511" y="6028"/>
                </a:cubicBezTo>
              </a:path>
              <a:path w="1415" h="794">
                <a:moveTo>
                  <a:pt x="14982" y="5531"/>
                </a:moveTo>
                <a:cubicBezTo>
                  <a:pt x="15021" y="5463"/>
                  <a:pt x="15026" y="5412"/>
                  <a:pt x="15032" y="5333"/>
                </a:cubicBezTo>
                <a:cubicBezTo>
                  <a:pt x="14913" y="5281"/>
                  <a:pt x="14678" y="5279"/>
                  <a:pt x="14660" y="5507"/>
                </a:cubicBezTo>
                <a:cubicBezTo>
                  <a:pt x="14637" y="5788"/>
                  <a:pt x="14962" y="5497"/>
                  <a:pt x="15007" y="5457"/>
                </a:cubicBezTo>
                <a:cubicBezTo>
                  <a:pt x="15015" y="5440"/>
                  <a:pt x="15024" y="5424"/>
                  <a:pt x="15032" y="5407"/>
                </a:cubicBezTo>
                <a:cubicBezTo>
                  <a:pt x="15021" y="5598"/>
                  <a:pt x="14993" y="5787"/>
                  <a:pt x="14982" y="59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21040" y="3062160"/>
            <a:ext cx="358920" cy="189000"/>
          </a:xfrm>
          <a:custGeom>
            <a:avLst/>
            <a:gdLst/>
            <a:ahLst/>
            <a:rect l="l" t="t" r="r" b="b"/>
            <a:pathLst>
              <a:path w="994" h="522">
                <a:moveTo>
                  <a:pt x="10641" y="8508"/>
                </a:moveTo>
                <a:cubicBezTo>
                  <a:pt x="10641" y="8683"/>
                  <a:pt x="10655" y="8863"/>
                  <a:pt x="10616" y="9029"/>
                </a:cubicBezTo>
              </a:path>
              <a:path w="994" h="522">
                <a:moveTo>
                  <a:pt x="10988" y="8607"/>
                </a:moveTo>
                <a:cubicBezTo>
                  <a:pt x="10889" y="8607"/>
                  <a:pt x="10762" y="8794"/>
                  <a:pt x="10765" y="8930"/>
                </a:cubicBezTo>
                <a:cubicBezTo>
                  <a:pt x="10782" y="8963"/>
                  <a:pt x="10798" y="8996"/>
                  <a:pt x="10815" y="9029"/>
                </a:cubicBezTo>
                <a:cubicBezTo>
                  <a:pt x="10932" y="9009"/>
                  <a:pt x="11254" y="8943"/>
                  <a:pt x="11088" y="8756"/>
                </a:cubicBezTo>
                <a:cubicBezTo>
                  <a:pt x="11020" y="8679"/>
                  <a:pt x="10880" y="8689"/>
                  <a:pt x="10790" y="8682"/>
                </a:cubicBezTo>
              </a:path>
              <a:path w="994" h="522">
                <a:moveTo>
                  <a:pt x="11286" y="8731"/>
                </a:moveTo>
                <a:cubicBezTo>
                  <a:pt x="11260" y="8895"/>
                  <a:pt x="11236" y="8893"/>
                  <a:pt x="11336" y="9004"/>
                </a:cubicBezTo>
                <a:cubicBezTo>
                  <a:pt x="11437" y="8980"/>
                  <a:pt x="11740" y="8868"/>
                  <a:pt x="11559" y="8706"/>
                </a:cubicBezTo>
                <a:cubicBezTo>
                  <a:pt x="11518" y="8690"/>
                  <a:pt x="11476" y="8673"/>
                  <a:pt x="11435" y="86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27720" y="3062160"/>
            <a:ext cx="276120" cy="169920"/>
          </a:xfrm>
          <a:custGeom>
            <a:avLst/>
            <a:gdLst/>
            <a:ahLst/>
            <a:rect l="l" t="t" r="r" b="b"/>
            <a:pathLst>
              <a:path w="770" h="472">
                <a:moveTo>
                  <a:pt x="12874" y="8508"/>
                </a:moveTo>
                <a:cubicBezTo>
                  <a:pt x="12798" y="8515"/>
                  <a:pt x="12700" y="8496"/>
                  <a:pt x="12675" y="8558"/>
                </a:cubicBezTo>
                <a:cubicBezTo>
                  <a:pt x="12645" y="8632"/>
                  <a:pt x="12644" y="8691"/>
                  <a:pt x="12601" y="8756"/>
                </a:cubicBezTo>
                <a:cubicBezTo>
                  <a:pt x="12700" y="8712"/>
                  <a:pt x="12842" y="8639"/>
                  <a:pt x="12948" y="8706"/>
                </a:cubicBezTo>
                <a:cubicBezTo>
                  <a:pt x="12995" y="8777"/>
                  <a:pt x="13012" y="8796"/>
                  <a:pt x="12998" y="8855"/>
                </a:cubicBezTo>
                <a:cubicBezTo>
                  <a:pt x="12886" y="8911"/>
                  <a:pt x="12693" y="8990"/>
                  <a:pt x="12576" y="8880"/>
                </a:cubicBezTo>
                <a:cubicBezTo>
                  <a:pt x="12576" y="8863"/>
                  <a:pt x="12576" y="8847"/>
                  <a:pt x="12576" y="8830"/>
                </a:cubicBezTo>
              </a:path>
              <a:path w="770" h="472">
                <a:moveTo>
                  <a:pt x="13122" y="8607"/>
                </a:moveTo>
                <a:cubicBezTo>
                  <a:pt x="13035" y="8748"/>
                  <a:pt x="12990" y="8804"/>
                  <a:pt x="13047" y="8954"/>
                </a:cubicBezTo>
                <a:cubicBezTo>
                  <a:pt x="13194" y="8963"/>
                  <a:pt x="13414" y="8932"/>
                  <a:pt x="13345" y="8706"/>
                </a:cubicBezTo>
                <a:cubicBezTo>
                  <a:pt x="13276" y="8613"/>
                  <a:pt x="13259" y="8580"/>
                  <a:pt x="13171" y="86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33960" y="3089160"/>
            <a:ext cx="331920" cy="162000"/>
          </a:xfrm>
          <a:custGeom>
            <a:avLst/>
            <a:gdLst/>
            <a:ahLst/>
            <a:rect l="l" t="t" r="r" b="b"/>
            <a:pathLst>
              <a:path w="918" h="448">
                <a:moveTo>
                  <a:pt x="14436" y="8607"/>
                </a:moveTo>
                <a:cubicBezTo>
                  <a:pt x="14524" y="8607"/>
                  <a:pt x="14578" y="8585"/>
                  <a:pt x="14635" y="8682"/>
                </a:cubicBezTo>
                <a:cubicBezTo>
                  <a:pt x="14741" y="8862"/>
                  <a:pt x="14489" y="9009"/>
                  <a:pt x="14337" y="8979"/>
                </a:cubicBezTo>
                <a:cubicBezTo>
                  <a:pt x="14312" y="8963"/>
                  <a:pt x="14288" y="8946"/>
                  <a:pt x="14263" y="8930"/>
                </a:cubicBezTo>
                <a:cubicBezTo>
                  <a:pt x="14320" y="8852"/>
                  <a:pt x="14503" y="8688"/>
                  <a:pt x="14610" y="8830"/>
                </a:cubicBezTo>
                <a:cubicBezTo>
                  <a:pt x="14631" y="8913"/>
                  <a:pt x="14639" y="8928"/>
                  <a:pt x="14635" y="8979"/>
                </a:cubicBezTo>
              </a:path>
              <a:path w="918" h="448">
                <a:moveTo>
                  <a:pt x="14982" y="8607"/>
                </a:moveTo>
                <a:cubicBezTo>
                  <a:pt x="14883" y="8577"/>
                  <a:pt x="14830" y="8551"/>
                  <a:pt x="14759" y="8657"/>
                </a:cubicBezTo>
                <a:cubicBezTo>
                  <a:pt x="14736" y="8724"/>
                  <a:pt x="14731" y="8742"/>
                  <a:pt x="14709" y="8781"/>
                </a:cubicBezTo>
                <a:cubicBezTo>
                  <a:pt x="14848" y="8772"/>
                  <a:pt x="15008" y="8710"/>
                  <a:pt x="15131" y="8806"/>
                </a:cubicBezTo>
                <a:cubicBezTo>
                  <a:pt x="15332" y="8963"/>
                  <a:pt x="15017" y="9033"/>
                  <a:pt x="14908" y="9004"/>
                </a:cubicBezTo>
                <a:cubicBezTo>
                  <a:pt x="14875" y="8987"/>
                  <a:pt x="14841" y="8971"/>
                  <a:pt x="14808" y="8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45040" y="3616200"/>
            <a:ext cx="465120" cy="179640"/>
          </a:xfrm>
          <a:custGeom>
            <a:avLst/>
            <a:gdLst/>
            <a:ahLst/>
            <a:rect l="l" t="t" r="r" b="b"/>
            <a:pathLst>
              <a:path w="1290" h="497">
                <a:moveTo>
                  <a:pt x="14511" y="10145"/>
                </a:moveTo>
                <a:cubicBezTo>
                  <a:pt x="14379" y="9996"/>
                  <a:pt x="14222" y="10035"/>
                  <a:pt x="14039" y="10096"/>
                </a:cubicBezTo>
                <a:cubicBezTo>
                  <a:pt x="13935" y="10131"/>
                  <a:pt x="14297" y="10343"/>
                  <a:pt x="14337" y="10368"/>
                </a:cubicBezTo>
                <a:cubicBezTo>
                  <a:pt x="14211" y="10444"/>
                  <a:pt x="14168" y="10469"/>
                  <a:pt x="14064" y="10418"/>
                </a:cubicBezTo>
                <a:cubicBezTo>
                  <a:pt x="14052" y="10256"/>
                  <a:pt x="14163" y="10222"/>
                  <a:pt x="14337" y="10120"/>
                </a:cubicBezTo>
              </a:path>
              <a:path w="1290" h="497">
                <a:moveTo>
                  <a:pt x="14709" y="10244"/>
                </a:moveTo>
                <a:cubicBezTo>
                  <a:pt x="14598" y="10224"/>
                  <a:pt x="14445" y="10277"/>
                  <a:pt x="14412" y="10418"/>
                </a:cubicBezTo>
                <a:cubicBezTo>
                  <a:pt x="14420" y="10451"/>
                  <a:pt x="14428" y="10484"/>
                  <a:pt x="14436" y="10517"/>
                </a:cubicBezTo>
                <a:cubicBezTo>
                  <a:pt x="14604" y="10536"/>
                  <a:pt x="14937" y="10455"/>
                  <a:pt x="14759" y="10195"/>
                </a:cubicBezTo>
                <a:cubicBezTo>
                  <a:pt x="14646" y="10149"/>
                  <a:pt x="14616" y="10133"/>
                  <a:pt x="14536" y="10145"/>
                </a:cubicBezTo>
              </a:path>
              <a:path w="1290" h="497">
                <a:moveTo>
                  <a:pt x="14982" y="10195"/>
                </a:moveTo>
                <a:cubicBezTo>
                  <a:pt x="14883" y="10304"/>
                  <a:pt x="14880" y="10326"/>
                  <a:pt x="14858" y="10468"/>
                </a:cubicBezTo>
                <a:cubicBezTo>
                  <a:pt x="14979" y="10513"/>
                  <a:pt x="15374" y="10567"/>
                  <a:pt x="15304" y="10294"/>
                </a:cubicBezTo>
                <a:cubicBezTo>
                  <a:pt x="15197" y="10187"/>
                  <a:pt x="15153" y="10154"/>
                  <a:pt x="15032" y="101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296120" y="27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0265" y="7590"/>
                </a:moveTo>
                <a:lnTo>
                  <a:pt x="20265" y="759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88160" y="1285920"/>
            <a:ext cx="1054080" cy="295200"/>
          </a:xfrm>
          <a:custGeom>
            <a:avLst/>
            <a:gdLst/>
            <a:ahLst/>
            <a:rect l="l" t="t" r="r" b="b"/>
            <a:pathLst>
              <a:path w="2928" h="819">
                <a:moveTo>
                  <a:pt x="21754" y="4217"/>
                </a:moveTo>
                <a:cubicBezTo>
                  <a:pt x="21831" y="4158"/>
                  <a:pt x="21825" y="4029"/>
                  <a:pt x="21754" y="3944"/>
                </a:cubicBezTo>
                <a:cubicBezTo>
                  <a:pt x="21623" y="3789"/>
                  <a:pt x="21387" y="4166"/>
                  <a:pt x="21357" y="4242"/>
                </a:cubicBezTo>
                <a:cubicBezTo>
                  <a:pt x="21252" y="4510"/>
                  <a:pt x="21711" y="4322"/>
                  <a:pt x="21779" y="4291"/>
                </a:cubicBezTo>
              </a:path>
              <a:path w="2928" h="819">
                <a:moveTo>
                  <a:pt x="21704" y="3572"/>
                </a:moveTo>
                <a:cubicBezTo>
                  <a:pt x="21740" y="3714"/>
                  <a:pt x="21796" y="3889"/>
                  <a:pt x="21828" y="4043"/>
                </a:cubicBezTo>
                <a:cubicBezTo>
                  <a:pt x="21849" y="4168"/>
                  <a:pt x="21850" y="4195"/>
                  <a:pt x="21878" y="4266"/>
                </a:cubicBezTo>
              </a:path>
              <a:path w="2928" h="819">
                <a:moveTo>
                  <a:pt x="22027" y="4118"/>
                </a:moveTo>
                <a:cubicBezTo>
                  <a:pt x="22134" y="4074"/>
                  <a:pt x="22208" y="4051"/>
                  <a:pt x="22324" y="4043"/>
                </a:cubicBezTo>
                <a:cubicBezTo>
                  <a:pt x="22249" y="3905"/>
                  <a:pt x="22172" y="3876"/>
                  <a:pt x="22076" y="4043"/>
                </a:cubicBezTo>
                <a:cubicBezTo>
                  <a:pt x="21978" y="4213"/>
                  <a:pt x="22052" y="4284"/>
                  <a:pt x="22200" y="4316"/>
                </a:cubicBezTo>
              </a:path>
              <a:path w="2928" h="819">
                <a:moveTo>
                  <a:pt x="22746" y="3894"/>
                </a:moveTo>
                <a:cubicBezTo>
                  <a:pt x="22788" y="3978"/>
                  <a:pt x="22716" y="3787"/>
                  <a:pt x="22597" y="3944"/>
                </a:cubicBezTo>
                <a:cubicBezTo>
                  <a:pt x="22471" y="4110"/>
                  <a:pt x="22478" y="4316"/>
                  <a:pt x="22721" y="4316"/>
                </a:cubicBezTo>
                <a:cubicBezTo>
                  <a:pt x="22754" y="4308"/>
                  <a:pt x="22787" y="4299"/>
                  <a:pt x="22820" y="4291"/>
                </a:cubicBezTo>
              </a:path>
              <a:path w="2928" h="819">
                <a:moveTo>
                  <a:pt x="22969" y="4118"/>
                </a:moveTo>
                <a:cubicBezTo>
                  <a:pt x="22969" y="4234"/>
                  <a:pt x="22969" y="4267"/>
                  <a:pt x="22969" y="4341"/>
                </a:cubicBezTo>
                <a:cubicBezTo>
                  <a:pt x="22969" y="4227"/>
                  <a:pt x="22969" y="4142"/>
                  <a:pt x="23019" y="4043"/>
                </a:cubicBezTo>
              </a:path>
              <a:path w="2928" h="819">
                <a:moveTo>
                  <a:pt x="23192" y="4167"/>
                </a:moveTo>
                <a:cubicBezTo>
                  <a:pt x="23281" y="4137"/>
                  <a:pt x="23315" y="4117"/>
                  <a:pt x="23341" y="4043"/>
                </a:cubicBezTo>
                <a:cubicBezTo>
                  <a:pt x="23342" y="3927"/>
                  <a:pt x="23178" y="4066"/>
                  <a:pt x="23168" y="4142"/>
                </a:cubicBezTo>
                <a:cubicBezTo>
                  <a:pt x="23129" y="4436"/>
                  <a:pt x="23517" y="4196"/>
                  <a:pt x="23589" y="4142"/>
                </a:cubicBezTo>
                <a:cubicBezTo>
                  <a:pt x="23614" y="4117"/>
                  <a:pt x="23639" y="4093"/>
                  <a:pt x="23664" y="4068"/>
                </a:cubicBezTo>
                <a:cubicBezTo>
                  <a:pt x="23551" y="4049"/>
                  <a:pt x="23378" y="4203"/>
                  <a:pt x="23540" y="4341"/>
                </a:cubicBezTo>
                <a:cubicBezTo>
                  <a:pt x="23652" y="4436"/>
                  <a:pt x="23681" y="4146"/>
                  <a:pt x="23688" y="4118"/>
                </a:cubicBezTo>
                <a:cubicBezTo>
                  <a:pt x="23710" y="4193"/>
                  <a:pt x="23746" y="4249"/>
                  <a:pt x="23788" y="4316"/>
                </a:cubicBezTo>
              </a:path>
              <a:path w="2928" h="819">
                <a:moveTo>
                  <a:pt x="24085" y="3969"/>
                </a:moveTo>
                <a:cubicBezTo>
                  <a:pt x="23981" y="4010"/>
                  <a:pt x="23954" y="4012"/>
                  <a:pt x="23912" y="4068"/>
                </a:cubicBezTo>
                <a:cubicBezTo>
                  <a:pt x="24028" y="4162"/>
                  <a:pt x="24200" y="4233"/>
                  <a:pt x="23961" y="4316"/>
                </a:cubicBezTo>
                <a:cubicBezTo>
                  <a:pt x="23936" y="4316"/>
                  <a:pt x="23912" y="4316"/>
                  <a:pt x="23887" y="4316"/>
                </a:cubicBezTo>
              </a:path>
              <a:path w="2928" h="819">
                <a:moveTo>
                  <a:pt x="24085" y="4118"/>
                </a:moveTo>
                <a:cubicBezTo>
                  <a:pt x="24151" y="4081"/>
                  <a:pt x="24202" y="4044"/>
                  <a:pt x="24259" y="3994"/>
                </a:cubicBezTo>
                <a:cubicBezTo>
                  <a:pt x="24161" y="3910"/>
                  <a:pt x="24027" y="3946"/>
                  <a:pt x="24011" y="4118"/>
                </a:cubicBezTo>
                <a:cubicBezTo>
                  <a:pt x="23995" y="4290"/>
                  <a:pt x="24144" y="4323"/>
                  <a:pt x="24259" y="4316"/>
                </a:cubicBezTo>
                <a:cubicBezTo>
                  <a:pt x="24267" y="4316"/>
                  <a:pt x="24276" y="4316"/>
                  <a:pt x="24284" y="43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9760" y="1724040"/>
            <a:ext cx="142560" cy="7920"/>
          </a:xfrm>
          <a:custGeom>
            <a:avLst/>
            <a:gdLst/>
            <a:ahLst/>
            <a:rect l="l" t="t" r="r" b="b"/>
            <a:pathLst>
              <a:path w="398" h="26">
                <a:moveTo>
                  <a:pt x="1414" y="4812"/>
                </a:moveTo>
                <a:cubicBezTo>
                  <a:pt x="1521" y="4812"/>
                  <a:pt x="1657" y="4769"/>
                  <a:pt x="1761" y="4787"/>
                </a:cubicBezTo>
                <a:cubicBezTo>
                  <a:pt x="1778" y="4795"/>
                  <a:pt x="1794" y="4804"/>
                  <a:pt x="1811" y="48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7800" y="1724040"/>
            <a:ext cx="241200" cy="150840"/>
          </a:xfrm>
          <a:custGeom>
            <a:avLst/>
            <a:gdLst/>
            <a:ahLst/>
            <a:rect l="l" t="t" r="r" b="b"/>
            <a:pathLst>
              <a:path w="671" h="423">
                <a:moveTo>
                  <a:pt x="2480" y="4911"/>
                </a:moveTo>
                <a:cubicBezTo>
                  <a:pt x="2367" y="4997"/>
                  <a:pt x="2365" y="5069"/>
                  <a:pt x="2356" y="5209"/>
                </a:cubicBezTo>
                <a:cubicBezTo>
                  <a:pt x="2465" y="5209"/>
                  <a:pt x="2603" y="5204"/>
                  <a:pt x="2629" y="5060"/>
                </a:cubicBezTo>
                <a:cubicBezTo>
                  <a:pt x="2640" y="4999"/>
                  <a:pt x="2539" y="4975"/>
                  <a:pt x="2505" y="4961"/>
                </a:cubicBezTo>
              </a:path>
              <a:path w="671" h="423">
                <a:moveTo>
                  <a:pt x="2778" y="4986"/>
                </a:moveTo>
                <a:cubicBezTo>
                  <a:pt x="2795" y="5011"/>
                  <a:pt x="2811" y="5035"/>
                  <a:pt x="2828" y="5060"/>
                </a:cubicBezTo>
                <a:cubicBezTo>
                  <a:pt x="2799" y="4965"/>
                  <a:pt x="2793" y="4933"/>
                  <a:pt x="2877" y="4862"/>
                </a:cubicBezTo>
                <a:cubicBezTo>
                  <a:pt x="2957" y="4802"/>
                  <a:pt x="2965" y="4777"/>
                  <a:pt x="3026" y="47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68280" y="1704960"/>
            <a:ext cx="115920" cy="144360"/>
          </a:xfrm>
          <a:custGeom>
            <a:avLst/>
            <a:gdLst/>
            <a:ahLst/>
            <a:rect l="l" t="t" r="r" b="b"/>
            <a:pathLst>
              <a:path w="324" h="398">
                <a:moveTo>
                  <a:pt x="3522" y="4911"/>
                </a:moveTo>
                <a:cubicBezTo>
                  <a:pt x="3630" y="4911"/>
                  <a:pt x="3737" y="4911"/>
                  <a:pt x="3845" y="4911"/>
                </a:cubicBezTo>
              </a:path>
              <a:path w="324" h="398">
                <a:moveTo>
                  <a:pt x="3597" y="4738"/>
                </a:moveTo>
                <a:lnTo>
                  <a:pt x="3597" y="4738"/>
                </a:lnTo>
              </a:path>
              <a:path w="324" h="398">
                <a:moveTo>
                  <a:pt x="3696" y="5135"/>
                </a:moveTo>
                <a:lnTo>
                  <a:pt x="3696" y="513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86240" y="2544840"/>
            <a:ext cx="9720" cy="152280"/>
          </a:xfrm>
          <a:custGeom>
            <a:avLst/>
            <a:gdLst/>
            <a:ahLst/>
            <a:rect l="l" t="t" r="r" b="b"/>
            <a:pathLst>
              <a:path w="26" h="423">
                <a:moveTo>
                  <a:pt x="14684" y="7069"/>
                </a:moveTo>
                <a:cubicBezTo>
                  <a:pt x="14695" y="7211"/>
                  <a:pt x="14709" y="7348"/>
                  <a:pt x="14709" y="74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08960" y="2509920"/>
            <a:ext cx="642960" cy="169920"/>
          </a:xfrm>
          <a:custGeom>
            <a:avLst/>
            <a:gdLst/>
            <a:ahLst/>
            <a:rect l="l" t="t" r="r" b="b"/>
            <a:pathLst>
              <a:path w="1787" h="472">
                <a:moveTo>
                  <a:pt x="21307" y="7069"/>
                </a:moveTo>
                <a:cubicBezTo>
                  <a:pt x="21347" y="7187"/>
                  <a:pt x="21357" y="7292"/>
                  <a:pt x="21357" y="7417"/>
                </a:cubicBezTo>
              </a:path>
              <a:path w="1787" h="472">
                <a:moveTo>
                  <a:pt x="21134" y="6970"/>
                </a:moveTo>
                <a:lnTo>
                  <a:pt x="21134" y="6970"/>
                </a:lnTo>
              </a:path>
              <a:path w="1787" h="472">
                <a:moveTo>
                  <a:pt x="21506" y="7218"/>
                </a:moveTo>
                <a:cubicBezTo>
                  <a:pt x="21533" y="7312"/>
                  <a:pt x="21559" y="7360"/>
                  <a:pt x="21580" y="7441"/>
                </a:cubicBezTo>
                <a:cubicBezTo>
                  <a:pt x="21531" y="7303"/>
                  <a:pt x="21475" y="7141"/>
                  <a:pt x="21679" y="7094"/>
                </a:cubicBezTo>
                <a:cubicBezTo>
                  <a:pt x="21891" y="7045"/>
                  <a:pt x="21947" y="7239"/>
                  <a:pt x="22002" y="7392"/>
                </a:cubicBezTo>
              </a:path>
              <a:path w="1787" h="472">
                <a:moveTo>
                  <a:pt x="22225" y="7169"/>
                </a:moveTo>
                <a:cubicBezTo>
                  <a:pt x="22225" y="7122"/>
                  <a:pt x="22213" y="7096"/>
                  <a:pt x="22175" y="7069"/>
                </a:cubicBezTo>
                <a:cubicBezTo>
                  <a:pt x="22039" y="7193"/>
                  <a:pt x="22019" y="7269"/>
                  <a:pt x="22076" y="7441"/>
                </a:cubicBezTo>
                <a:cubicBezTo>
                  <a:pt x="22203" y="7417"/>
                  <a:pt x="22422" y="7265"/>
                  <a:pt x="22448" y="7293"/>
                </a:cubicBezTo>
                <a:cubicBezTo>
                  <a:pt x="22465" y="7318"/>
                  <a:pt x="22481" y="7342"/>
                  <a:pt x="22498" y="7367"/>
                </a:cubicBezTo>
                <a:cubicBezTo>
                  <a:pt x="22481" y="7231"/>
                  <a:pt x="22465" y="7176"/>
                  <a:pt x="22597" y="7094"/>
                </a:cubicBezTo>
                <a:cubicBezTo>
                  <a:pt x="22662" y="7072"/>
                  <a:pt x="22677" y="7064"/>
                  <a:pt x="22721" y="7069"/>
                </a:cubicBezTo>
              </a:path>
              <a:path w="1787" h="472">
                <a:moveTo>
                  <a:pt x="22920" y="7417"/>
                </a:moveTo>
                <a:lnTo>
                  <a:pt x="22920" y="741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7040" y="2759040"/>
            <a:ext cx="204840" cy="169920"/>
          </a:xfrm>
          <a:custGeom>
            <a:avLst/>
            <a:gdLst/>
            <a:ahLst/>
            <a:rect l="l" t="t" r="r" b="b"/>
            <a:pathLst>
              <a:path w="572" h="472">
                <a:moveTo>
                  <a:pt x="1786" y="7665"/>
                </a:moveTo>
                <a:cubicBezTo>
                  <a:pt x="1786" y="7822"/>
                  <a:pt x="1786" y="7979"/>
                  <a:pt x="1786" y="8136"/>
                </a:cubicBezTo>
              </a:path>
              <a:path w="572" h="472">
                <a:moveTo>
                  <a:pt x="1463" y="7962"/>
                </a:moveTo>
                <a:cubicBezTo>
                  <a:pt x="1656" y="7962"/>
                  <a:pt x="1843" y="7950"/>
                  <a:pt x="2034" y="79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01800" y="2857680"/>
            <a:ext cx="268200" cy="125280"/>
          </a:xfrm>
          <a:custGeom>
            <a:avLst/>
            <a:gdLst/>
            <a:ahLst/>
            <a:rect l="l" t="t" r="r" b="b"/>
            <a:pathLst>
              <a:path w="745" h="348">
                <a:moveTo>
                  <a:pt x="2654" y="8037"/>
                </a:moveTo>
                <a:cubicBezTo>
                  <a:pt x="2529" y="8095"/>
                  <a:pt x="2550" y="8077"/>
                  <a:pt x="2505" y="8210"/>
                </a:cubicBezTo>
                <a:cubicBezTo>
                  <a:pt x="2610" y="8284"/>
                  <a:pt x="2740" y="8326"/>
                  <a:pt x="2803" y="8161"/>
                </a:cubicBezTo>
                <a:cubicBezTo>
                  <a:pt x="2860" y="8014"/>
                  <a:pt x="2676" y="8025"/>
                  <a:pt x="2604" y="8037"/>
                </a:cubicBezTo>
              </a:path>
              <a:path w="745" h="348">
                <a:moveTo>
                  <a:pt x="2952" y="8062"/>
                </a:moveTo>
                <a:cubicBezTo>
                  <a:pt x="2993" y="8144"/>
                  <a:pt x="3001" y="8161"/>
                  <a:pt x="3026" y="8210"/>
                </a:cubicBezTo>
                <a:cubicBezTo>
                  <a:pt x="3026" y="8094"/>
                  <a:pt x="3029" y="8021"/>
                  <a:pt x="3150" y="7962"/>
                </a:cubicBezTo>
                <a:cubicBezTo>
                  <a:pt x="3183" y="7954"/>
                  <a:pt x="3216" y="7946"/>
                  <a:pt x="3249" y="79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73120" y="2768760"/>
            <a:ext cx="162000" cy="187200"/>
          </a:xfrm>
          <a:custGeom>
            <a:avLst/>
            <a:gdLst/>
            <a:ahLst/>
            <a:rect l="l" t="t" r="r" b="b"/>
            <a:pathLst>
              <a:path w="447" h="522">
                <a:moveTo>
                  <a:pt x="4118" y="7789"/>
                </a:moveTo>
                <a:cubicBezTo>
                  <a:pt x="4268" y="7907"/>
                  <a:pt x="4382" y="8048"/>
                  <a:pt x="4514" y="8186"/>
                </a:cubicBezTo>
                <a:cubicBezTo>
                  <a:pt x="4522" y="8194"/>
                  <a:pt x="4531" y="8202"/>
                  <a:pt x="4539" y="8210"/>
                </a:cubicBezTo>
              </a:path>
              <a:path w="447" h="522">
                <a:moveTo>
                  <a:pt x="4539" y="7689"/>
                </a:moveTo>
                <a:cubicBezTo>
                  <a:pt x="4390" y="7848"/>
                  <a:pt x="4257" y="8018"/>
                  <a:pt x="4118" y="8186"/>
                </a:cubicBezTo>
                <a:cubicBezTo>
                  <a:pt x="4110" y="8194"/>
                  <a:pt x="4101" y="8202"/>
                  <a:pt x="4093" y="82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19200" y="2697120"/>
            <a:ext cx="366840" cy="241200"/>
          </a:xfrm>
          <a:custGeom>
            <a:avLst/>
            <a:gdLst/>
            <a:ahLst/>
            <a:rect l="l" t="t" r="r" b="b"/>
            <a:pathLst>
              <a:path w="1018" h="671">
                <a:moveTo>
                  <a:pt x="6796" y="7689"/>
                </a:moveTo>
                <a:cubicBezTo>
                  <a:pt x="6881" y="7802"/>
                  <a:pt x="6962" y="7921"/>
                  <a:pt x="7045" y="8037"/>
                </a:cubicBezTo>
              </a:path>
              <a:path w="1018" h="671">
                <a:moveTo>
                  <a:pt x="7119" y="7665"/>
                </a:moveTo>
                <a:cubicBezTo>
                  <a:pt x="6978" y="7823"/>
                  <a:pt x="6853" y="7993"/>
                  <a:pt x="6722" y="8161"/>
                </a:cubicBezTo>
              </a:path>
              <a:path w="1018" h="671">
                <a:moveTo>
                  <a:pt x="7342" y="7615"/>
                </a:moveTo>
                <a:cubicBezTo>
                  <a:pt x="7368" y="7485"/>
                  <a:pt x="7462" y="7509"/>
                  <a:pt x="7565" y="7516"/>
                </a:cubicBezTo>
                <a:cubicBezTo>
                  <a:pt x="7614" y="7622"/>
                  <a:pt x="7657" y="7760"/>
                  <a:pt x="7516" y="7838"/>
                </a:cubicBezTo>
                <a:cubicBezTo>
                  <a:pt x="7499" y="7838"/>
                  <a:pt x="7483" y="7838"/>
                  <a:pt x="7466" y="7838"/>
                </a:cubicBezTo>
                <a:cubicBezTo>
                  <a:pt x="7564" y="7832"/>
                  <a:pt x="7824" y="7856"/>
                  <a:pt x="7714" y="8037"/>
                </a:cubicBezTo>
                <a:cubicBezTo>
                  <a:pt x="7626" y="8183"/>
                  <a:pt x="7488" y="8156"/>
                  <a:pt x="7367" y="80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61160" y="3606840"/>
            <a:ext cx="571680" cy="216000"/>
          </a:xfrm>
          <a:custGeom>
            <a:avLst/>
            <a:gdLst/>
            <a:ahLst/>
            <a:rect l="l" t="t" r="r" b="b"/>
            <a:pathLst>
              <a:path w="1589" h="596">
                <a:moveTo>
                  <a:pt x="21729" y="10368"/>
                </a:moveTo>
                <a:cubicBezTo>
                  <a:pt x="21687" y="10202"/>
                  <a:pt x="21539" y="10124"/>
                  <a:pt x="21382" y="10269"/>
                </a:cubicBezTo>
                <a:cubicBezTo>
                  <a:pt x="21290" y="10405"/>
                  <a:pt x="21251" y="10441"/>
                  <a:pt x="21332" y="10542"/>
                </a:cubicBezTo>
                <a:cubicBezTo>
                  <a:pt x="21590" y="10613"/>
                  <a:pt x="21685" y="10435"/>
                  <a:pt x="21679" y="10145"/>
                </a:cubicBezTo>
                <a:cubicBezTo>
                  <a:pt x="21671" y="10104"/>
                  <a:pt x="21662" y="10062"/>
                  <a:pt x="21654" y="10021"/>
                </a:cubicBezTo>
                <a:cubicBezTo>
                  <a:pt x="21662" y="10192"/>
                  <a:pt x="21674" y="10355"/>
                  <a:pt x="21729" y="10517"/>
                </a:cubicBezTo>
              </a:path>
              <a:path w="1589" h="596">
                <a:moveTo>
                  <a:pt x="21828" y="10294"/>
                </a:moveTo>
                <a:cubicBezTo>
                  <a:pt x="21856" y="10301"/>
                  <a:pt x="22066" y="10395"/>
                  <a:pt x="22101" y="10344"/>
                </a:cubicBezTo>
                <a:cubicBezTo>
                  <a:pt x="22101" y="10327"/>
                  <a:pt x="22101" y="10311"/>
                  <a:pt x="22101" y="10294"/>
                </a:cubicBezTo>
                <a:cubicBezTo>
                  <a:pt x="21986" y="10191"/>
                  <a:pt x="21911" y="10155"/>
                  <a:pt x="21803" y="10319"/>
                </a:cubicBezTo>
                <a:cubicBezTo>
                  <a:pt x="21685" y="10499"/>
                  <a:pt x="21798" y="10514"/>
                  <a:pt x="21927" y="10567"/>
                </a:cubicBezTo>
              </a:path>
              <a:path w="1589" h="596">
                <a:moveTo>
                  <a:pt x="22473" y="10269"/>
                </a:moveTo>
                <a:cubicBezTo>
                  <a:pt x="22516" y="10334"/>
                  <a:pt x="22528" y="10348"/>
                  <a:pt x="22547" y="10393"/>
                </a:cubicBezTo>
                <a:cubicBezTo>
                  <a:pt x="22560" y="10295"/>
                  <a:pt x="22588" y="10105"/>
                  <a:pt x="22399" y="10220"/>
                </a:cubicBezTo>
                <a:cubicBezTo>
                  <a:pt x="22133" y="10382"/>
                  <a:pt x="22313" y="10532"/>
                  <a:pt x="22498" y="10567"/>
                </a:cubicBezTo>
              </a:path>
              <a:path w="1589" h="596">
                <a:moveTo>
                  <a:pt x="22870" y="10443"/>
                </a:moveTo>
                <a:lnTo>
                  <a:pt x="22870" y="1044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5760" y="3938760"/>
            <a:ext cx="160200" cy="34920"/>
          </a:xfrm>
          <a:custGeom>
            <a:avLst/>
            <a:gdLst/>
            <a:ahLst/>
            <a:rect l="l" t="t" r="r" b="b"/>
            <a:pathLst>
              <a:path w="448" h="100">
                <a:moveTo>
                  <a:pt x="1265" y="10939"/>
                </a:moveTo>
                <a:cubicBezTo>
                  <a:pt x="1415" y="10972"/>
                  <a:pt x="1565" y="10996"/>
                  <a:pt x="1712" y="110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92080" y="3946680"/>
            <a:ext cx="216000" cy="98280"/>
          </a:xfrm>
          <a:custGeom>
            <a:avLst/>
            <a:gdLst/>
            <a:ahLst/>
            <a:rect l="l" t="t" r="r" b="b"/>
            <a:pathLst>
              <a:path w="597" h="274">
                <a:moveTo>
                  <a:pt x="2505" y="10964"/>
                </a:moveTo>
                <a:cubicBezTo>
                  <a:pt x="2496" y="11053"/>
                  <a:pt x="2453" y="11224"/>
                  <a:pt x="2629" y="11187"/>
                </a:cubicBezTo>
                <a:cubicBezTo>
                  <a:pt x="2787" y="11154"/>
                  <a:pt x="2565" y="10987"/>
                  <a:pt x="2530" y="10964"/>
                </a:cubicBezTo>
              </a:path>
              <a:path w="597" h="274">
                <a:moveTo>
                  <a:pt x="2877" y="11162"/>
                </a:moveTo>
                <a:cubicBezTo>
                  <a:pt x="2836" y="11291"/>
                  <a:pt x="2963" y="11066"/>
                  <a:pt x="3076" y="110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39920" y="3875040"/>
            <a:ext cx="196920" cy="241200"/>
          </a:xfrm>
          <a:custGeom>
            <a:avLst/>
            <a:gdLst/>
            <a:ahLst/>
            <a:rect l="l" t="t" r="r" b="b"/>
            <a:pathLst>
              <a:path w="546" h="671">
                <a:moveTo>
                  <a:pt x="3721" y="11137"/>
                </a:moveTo>
                <a:cubicBezTo>
                  <a:pt x="3904" y="11125"/>
                  <a:pt x="4081" y="11112"/>
                  <a:pt x="4266" y="11112"/>
                </a:cubicBezTo>
              </a:path>
              <a:path w="546" h="671">
                <a:moveTo>
                  <a:pt x="3969" y="10765"/>
                </a:moveTo>
                <a:lnTo>
                  <a:pt x="3969" y="10765"/>
                </a:lnTo>
              </a:path>
              <a:path w="546" h="671">
                <a:moveTo>
                  <a:pt x="3994" y="11435"/>
                </a:moveTo>
                <a:lnTo>
                  <a:pt x="3994" y="1143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20920" y="3840120"/>
            <a:ext cx="376200" cy="250920"/>
          </a:xfrm>
          <a:custGeom>
            <a:avLst/>
            <a:gdLst/>
            <a:ahLst/>
            <a:rect l="l" t="t" r="r" b="b"/>
            <a:pathLst>
              <a:path w="1043" h="696">
                <a:moveTo>
                  <a:pt x="6449" y="10864"/>
                </a:moveTo>
                <a:cubicBezTo>
                  <a:pt x="6624" y="10873"/>
                  <a:pt x="6794" y="10889"/>
                  <a:pt x="6970" y="10889"/>
                </a:cubicBezTo>
              </a:path>
              <a:path w="1043" h="696">
                <a:moveTo>
                  <a:pt x="6722" y="10666"/>
                </a:moveTo>
                <a:lnTo>
                  <a:pt x="6722" y="10666"/>
                </a:lnTo>
              </a:path>
              <a:path w="1043" h="696">
                <a:moveTo>
                  <a:pt x="6722" y="11212"/>
                </a:moveTo>
                <a:lnTo>
                  <a:pt x="6722" y="11212"/>
                </a:lnTo>
              </a:path>
              <a:path w="1043" h="696">
                <a:moveTo>
                  <a:pt x="7119" y="10864"/>
                </a:moveTo>
                <a:cubicBezTo>
                  <a:pt x="7179" y="10784"/>
                  <a:pt x="7254" y="10719"/>
                  <a:pt x="7367" y="10740"/>
                </a:cubicBezTo>
                <a:cubicBezTo>
                  <a:pt x="7384" y="10748"/>
                  <a:pt x="7400" y="10757"/>
                  <a:pt x="7417" y="10765"/>
                </a:cubicBezTo>
                <a:cubicBezTo>
                  <a:pt x="7443" y="10925"/>
                  <a:pt x="7367" y="11000"/>
                  <a:pt x="7243" y="11112"/>
                </a:cubicBezTo>
                <a:cubicBezTo>
                  <a:pt x="7149" y="11197"/>
                  <a:pt x="7079" y="11265"/>
                  <a:pt x="6995" y="11361"/>
                </a:cubicBezTo>
                <a:cubicBezTo>
                  <a:pt x="7123" y="11246"/>
                  <a:pt x="7249" y="11082"/>
                  <a:pt x="7441" y="11187"/>
                </a:cubicBezTo>
                <a:cubicBezTo>
                  <a:pt x="7458" y="11204"/>
                  <a:pt x="7474" y="11220"/>
                  <a:pt x="7491" y="112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14960" y="4670280"/>
            <a:ext cx="152280" cy="258840"/>
          </a:xfrm>
          <a:custGeom>
            <a:avLst/>
            <a:gdLst/>
            <a:ahLst/>
            <a:rect l="l" t="t" r="r" b="b"/>
            <a:pathLst>
              <a:path w="423" h="720">
                <a:moveTo>
                  <a:pt x="14486" y="13122"/>
                </a:moveTo>
                <a:cubicBezTo>
                  <a:pt x="14550" y="13069"/>
                  <a:pt x="14871" y="12807"/>
                  <a:pt x="14858" y="13072"/>
                </a:cubicBezTo>
                <a:cubicBezTo>
                  <a:pt x="14810" y="13216"/>
                  <a:pt x="14797" y="13261"/>
                  <a:pt x="14709" y="13320"/>
                </a:cubicBezTo>
                <a:cubicBezTo>
                  <a:pt x="14693" y="13328"/>
                  <a:pt x="14676" y="13337"/>
                  <a:pt x="14660" y="13345"/>
                </a:cubicBezTo>
                <a:cubicBezTo>
                  <a:pt x="14761" y="13284"/>
                  <a:pt x="14939" y="13372"/>
                  <a:pt x="14908" y="13543"/>
                </a:cubicBezTo>
                <a:cubicBezTo>
                  <a:pt x="14860" y="13803"/>
                  <a:pt x="14613" y="13671"/>
                  <a:pt x="14511" y="135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05800" y="4680000"/>
            <a:ext cx="527040" cy="241200"/>
          </a:xfrm>
          <a:custGeom>
            <a:avLst/>
            <a:gdLst/>
            <a:ahLst/>
            <a:rect l="l" t="t" r="r" b="b"/>
            <a:pathLst>
              <a:path w="1465" h="670">
                <a:moveTo>
                  <a:pt x="21605" y="13146"/>
                </a:moveTo>
                <a:cubicBezTo>
                  <a:pt x="21623" y="13322"/>
                  <a:pt x="21656" y="13499"/>
                  <a:pt x="21605" y="13667"/>
                </a:cubicBezTo>
              </a:path>
              <a:path w="1465" h="670">
                <a:moveTo>
                  <a:pt x="21406" y="13022"/>
                </a:moveTo>
                <a:lnTo>
                  <a:pt x="21406" y="13022"/>
                </a:lnTo>
              </a:path>
              <a:path w="1465" h="670">
                <a:moveTo>
                  <a:pt x="21803" y="13370"/>
                </a:moveTo>
                <a:cubicBezTo>
                  <a:pt x="21826" y="13486"/>
                  <a:pt x="21833" y="13519"/>
                  <a:pt x="21853" y="13593"/>
                </a:cubicBezTo>
                <a:cubicBezTo>
                  <a:pt x="21836" y="13438"/>
                  <a:pt x="21774" y="13295"/>
                  <a:pt x="21903" y="13171"/>
                </a:cubicBezTo>
                <a:cubicBezTo>
                  <a:pt x="22062" y="13018"/>
                  <a:pt x="22205" y="13253"/>
                  <a:pt x="22250" y="13370"/>
                </a:cubicBezTo>
                <a:cubicBezTo>
                  <a:pt x="22277" y="13441"/>
                  <a:pt x="22275" y="13496"/>
                  <a:pt x="22275" y="13568"/>
                </a:cubicBezTo>
              </a:path>
              <a:path w="1465" h="670">
                <a:moveTo>
                  <a:pt x="22597" y="13146"/>
                </a:moveTo>
                <a:cubicBezTo>
                  <a:pt x="22597" y="13032"/>
                  <a:pt x="22612" y="13057"/>
                  <a:pt x="22523" y="12998"/>
                </a:cubicBezTo>
                <a:cubicBezTo>
                  <a:pt x="22420" y="13074"/>
                  <a:pt x="22217" y="13321"/>
                  <a:pt x="22374" y="13469"/>
                </a:cubicBezTo>
                <a:cubicBezTo>
                  <a:pt x="22513" y="13516"/>
                  <a:pt x="22553" y="13534"/>
                  <a:pt x="22647" y="13494"/>
                </a:cubicBezTo>
              </a:path>
              <a:path w="1465" h="670">
                <a:moveTo>
                  <a:pt x="22870" y="13395"/>
                </a:moveTo>
                <a:lnTo>
                  <a:pt x="22870" y="1339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9960" y="4983120"/>
            <a:ext cx="465120" cy="231840"/>
          </a:xfrm>
          <a:custGeom>
            <a:avLst/>
            <a:gdLst/>
            <a:ahLst/>
            <a:rect l="l" t="t" r="r" b="b"/>
            <a:pathLst>
              <a:path w="1291" h="646">
                <a:moveTo>
                  <a:pt x="2108" y="13841"/>
                </a:moveTo>
                <a:cubicBezTo>
                  <a:pt x="2103" y="13954"/>
                  <a:pt x="2078" y="14066"/>
                  <a:pt x="2059" y="14163"/>
                </a:cubicBezTo>
                <a:cubicBezTo>
                  <a:pt x="2059" y="14180"/>
                  <a:pt x="2059" y="14196"/>
                  <a:pt x="2059" y="14213"/>
                </a:cubicBezTo>
              </a:path>
              <a:path w="1291" h="646">
                <a:moveTo>
                  <a:pt x="1860" y="13965"/>
                </a:moveTo>
                <a:cubicBezTo>
                  <a:pt x="1982" y="13970"/>
                  <a:pt x="2053" y="13962"/>
                  <a:pt x="2158" y="14015"/>
                </a:cubicBezTo>
              </a:path>
              <a:path w="1291" h="646">
                <a:moveTo>
                  <a:pt x="2580" y="14188"/>
                </a:moveTo>
                <a:cubicBezTo>
                  <a:pt x="2540" y="14215"/>
                  <a:pt x="2363" y="14446"/>
                  <a:pt x="2555" y="14461"/>
                </a:cubicBezTo>
                <a:cubicBezTo>
                  <a:pt x="2677" y="14421"/>
                  <a:pt x="2706" y="14425"/>
                  <a:pt x="2753" y="14362"/>
                </a:cubicBezTo>
                <a:cubicBezTo>
                  <a:pt x="2702" y="14247"/>
                  <a:pt x="2663" y="14238"/>
                  <a:pt x="2530" y="14238"/>
                </a:cubicBezTo>
              </a:path>
              <a:path w="1291" h="646">
                <a:moveTo>
                  <a:pt x="2902" y="14238"/>
                </a:moveTo>
                <a:cubicBezTo>
                  <a:pt x="2941" y="14331"/>
                  <a:pt x="2964" y="14383"/>
                  <a:pt x="2977" y="14486"/>
                </a:cubicBezTo>
                <a:cubicBezTo>
                  <a:pt x="2995" y="14410"/>
                  <a:pt x="2993" y="14283"/>
                  <a:pt x="3076" y="14238"/>
                </a:cubicBezTo>
                <a:cubicBezTo>
                  <a:pt x="3101" y="14238"/>
                  <a:pt x="3125" y="14238"/>
                  <a:pt x="3150" y="142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57200" y="5037120"/>
            <a:ext cx="162000" cy="16992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3770" y="14114"/>
                </a:moveTo>
                <a:cubicBezTo>
                  <a:pt x="3925" y="14185"/>
                  <a:pt x="4000" y="14289"/>
                  <a:pt x="4118" y="14412"/>
                </a:cubicBezTo>
                <a:cubicBezTo>
                  <a:pt x="4134" y="14428"/>
                  <a:pt x="4151" y="14445"/>
                  <a:pt x="4167" y="14461"/>
                </a:cubicBezTo>
              </a:path>
              <a:path w="448" h="472">
                <a:moveTo>
                  <a:pt x="4217" y="13990"/>
                </a:moveTo>
                <a:cubicBezTo>
                  <a:pt x="4106" y="14156"/>
                  <a:pt x="3978" y="14312"/>
                  <a:pt x="3845" y="144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52800" y="5018040"/>
            <a:ext cx="339480" cy="250920"/>
          </a:xfrm>
          <a:custGeom>
            <a:avLst/>
            <a:gdLst/>
            <a:ahLst/>
            <a:rect l="l" t="t" r="r" b="b"/>
            <a:pathLst>
              <a:path w="944" h="696">
                <a:moveTo>
                  <a:pt x="6226" y="14213"/>
                </a:moveTo>
                <a:cubicBezTo>
                  <a:pt x="6201" y="14352"/>
                  <a:pt x="6171" y="14501"/>
                  <a:pt x="6127" y="14635"/>
                </a:cubicBezTo>
              </a:path>
              <a:path w="944" h="696">
                <a:moveTo>
                  <a:pt x="5978" y="14312"/>
                </a:moveTo>
                <a:cubicBezTo>
                  <a:pt x="6139" y="14312"/>
                  <a:pt x="6290" y="14316"/>
                  <a:pt x="6449" y="14337"/>
                </a:cubicBezTo>
              </a:path>
              <a:path w="944" h="696">
                <a:moveTo>
                  <a:pt x="6623" y="13965"/>
                </a:moveTo>
                <a:cubicBezTo>
                  <a:pt x="6657" y="13962"/>
                  <a:pt x="6949" y="13909"/>
                  <a:pt x="6871" y="14039"/>
                </a:cubicBezTo>
                <a:cubicBezTo>
                  <a:pt x="6797" y="14162"/>
                  <a:pt x="6718" y="14154"/>
                  <a:pt x="6598" y="14163"/>
                </a:cubicBezTo>
                <a:cubicBezTo>
                  <a:pt x="6678" y="14135"/>
                  <a:pt x="6987" y="14108"/>
                  <a:pt x="6921" y="14312"/>
                </a:cubicBezTo>
                <a:cubicBezTo>
                  <a:pt x="6882" y="14432"/>
                  <a:pt x="6460" y="14281"/>
                  <a:pt x="6573" y="14337"/>
                </a:cubicBezTo>
                <a:cubicBezTo>
                  <a:pt x="6630" y="14365"/>
                  <a:pt x="6653" y="14376"/>
                  <a:pt x="6697" y="143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27240" y="4205160"/>
            <a:ext cx="196920" cy="1796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8483" y="11683"/>
                </a:moveTo>
                <a:cubicBezTo>
                  <a:pt x="8459" y="11807"/>
                  <a:pt x="8430" y="11933"/>
                  <a:pt x="8409" y="12055"/>
                </a:cubicBezTo>
              </a:path>
              <a:path w="546" h="497">
                <a:moveTo>
                  <a:pt x="8682" y="11708"/>
                </a:moveTo>
                <a:cubicBezTo>
                  <a:pt x="8923" y="11733"/>
                  <a:pt x="8946" y="11781"/>
                  <a:pt x="8905" y="12030"/>
                </a:cubicBezTo>
                <a:cubicBezTo>
                  <a:pt x="8875" y="12214"/>
                  <a:pt x="8741" y="12156"/>
                  <a:pt x="8632" y="12080"/>
                </a:cubicBezTo>
                <a:cubicBezTo>
                  <a:pt x="8736" y="11961"/>
                  <a:pt x="8825" y="11949"/>
                  <a:pt x="8930" y="12080"/>
                </a:cubicBezTo>
                <a:cubicBezTo>
                  <a:pt x="8953" y="12128"/>
                  <a:pt x="8961" y="12142"/>
                  <a:pt x="8954" y="121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3760" y="4214880"/>
            <a:ext cx="268200" cy="179280"/>
          </a:xfrm>
          <a:custGeom>
            <a:avLst/>
            <a:gdLst/>
            <a:ahLst/>
            <a:rect l="l" t="t" r="r" b="b"/>
            <a:pathLst>
              <a:path w="745" h="497">
                <a:moveTo>
                  <a:pt x="10641" y="11733"/>
                </a:moveTo>
                <a:cubicBezTo>
                  <a:pt x="10633" y="11880"/>
                  <a:pt x="10617" y="12016"/>
                  <a:pt x="10567" y="12154"/>
                </a:cubicBezTo>
              </a:path>
              <a:path w="745" h="497">
                <a:moveTo>
                  <a:pt x="11187" y="11708"/>
                </a:moveTo>
                <a:cubicBezTo>
                  <a:pt x="11136" y="11725"/>
                  <a:pt x="10992" y="11739"/>
                  <a:pt x="10964" y="11782"/>
                </a:cubicBezTo>
                <a:cubicBezTo>
                  <a:pt x="10922" y="11865"/>
                  <a:pt x="10914" y="11881"/>
                  <a:pt x="10889" y="11931"/>
                </a:cubicBezTo>
                <a:cubicBezTo>
                  <a:pt x="10978" y="11921"/>
                  <a:pt x="11265" y="11802"/>
                  <a:pt x="11311" y="11931"/>
                </a:cubicBezTo>
                <a:cubicBezTo>
                  <a:pt x="11383" y="12132"/>
                  <a:pt x="11204" y="12186"/>
                  <a:pt x="11063" y="122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00720" y="4160880"/>
            <a:ext cx="179280" cy="179280"/>
          </a:xfrm>
          <a:custGeom>
            <a:avLst/>
            <a:gdLst/>
            <a:ahLst/>
            <a:rect l="l" t="t" r="r" b="b"/>
            <a:pathLst>
              <a:path w="497" h="497">
                <a:moveTo>
                  <a:pt x="12626" y="11559"/>
                </a:moveTo>
                <a:cubicBezTo>
                  <a:pt x="12581" y="11706"/>
                  <a:pt x="12576" y="11852"/>
                  <a:pt x="12502" y="11981"/>
                </a:cubicBezTo>
              </a:path>
              <a:path w="497" h="497">
                <a:moveTo>
                  <a:pt x="12973" y="11683"/>
                </a:moveTo>
                <a:cubicBezTo>
                  <a:pt x="12857" y="11660"/>
                  <a:pt x="12824" y="11649"/>
                  <a:pt x="12750" y="11683"/>
                </a:cubicBezTo>
                <a:cubicBezTo>
                  <a:pt x="12777" y="11769"/>
                  <a:pt x="12988" y="11959"/>
                  <a:pt x="12874" y="12030"/>
                </a:cubicBezTo>
                <a:cubicBezTo>
                  <a:pt x="12841" y="12038"/>
                  <a:pt x="12807" y="12047"/>
                  <a:pt x="12774" y="12055"/>
                </a:cubicBezTo>
                <a:cubicBezTo>
                  <a:pt x="12732" y="11896"/>
                  <a:pt x="12853" y="11820"/>
                  <a:pt x="12998" y="117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28440" y="9907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 1 </a:t>
            </a:r>
            <a:r>
              <a:rPr b="0" lang="en-US" sz="3600" spc="-1" strike="noStrike">
                <a:solidFill>
                  <a:srgbClr val="f6fca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361960" y="3200040"/>
            <a:ext cx="49957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Times New Roman"/>
              </a:rPr>
              <a:t>Section 1.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Function T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 :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o interpre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nd write a rule for a one-operation function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Times New Roman"/>
              </a:rPr>
              <a:t>Rule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 – pattern being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Times New Roman"/>
              </a:rPr>
              <a:t>Function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 – relationship between two sets of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Times New Roman"/>
              </a:rPr>
              <a:t>Input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 – number you start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Times New Roman"/>
              </a:rPr>
              <a:t>Output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 – number you get after applying the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11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143160" y="4952880"/>
            <a:ext cx="2857680" cy="1552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001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ive :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o interpret and write a rule for a one-operation function t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imes New Roman"/>
              </a:rPr>
              <a:t>It can be helpful to think of functions as machines, a number goes in…something happens…and a number comes out.  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Let’s use what we know about patterns to help us find the </a:t>
            </a: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missing inputs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and outputs,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 as well as </a:t>
            </a: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the rule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 for each function t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Times New Roman"/>
              </a:rPr>
              <a:t>     </a:t>
            </a:r>
            <a:r>
              <a:rPr b="1" lang="en-US" sz="2200" spc="-1" strike="noStrike">
                <a:solidFill>
                  <a:srgbClr val="ff6600"/>
                </a:solidFill>
                <a:latin typeface="Times New Roman"/>
              </a:rPr>
              <a:t>Rule is:____      </a:t>
            </a:r>
            <a:r>
              <a:rPr b="1" lang="en-US" sz="22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6600"/>
                </a:solidFill>
                <a:latin typeface="Times New Roman"/>
              </a:rPr>
              <a:t>Rule is:____      </a:t>
            </a:r>
            <a:r>
              <a:rPr b="1" lang="en-US" sz="22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6600"/>
                </a:solidFill>
                <a:latin typeface="Times New Roman"/>
              </a:rPr>
              <a:t>Rule is:___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90720" y="2133720"/>
          <a:ext cx="1981080" cy="2006640"/>
        </p:xfrm>
        <a:graphic>
          <a:graphicData uri="http://schemas.openxmlformats.org/drawingml/2006/table">
            <a:tbl>
              <a:tblPr/>
              <a:tblGrid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3505320" y="1905120"/>
          <a:ext cx="1904760" cy="2130480"/>
        </p:xfrm>
        <a:graphic>
          <a:graphicData uri="http://schemas.openxmlformats.org/drawingml/2006/table">
            <a:tbl>
              <a:tblPr/>
              <a:tblGrid>
                <a:gridCol w="952560"/>
                <a:gridCol w="95220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6019920" y="1676520"/>
          <a:ext cx="2057400" cy="200664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2660760" y="19382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7392" y="5383"/>
                </a:moveTo>
                <a:lnTo>
                  <a:pt x="7392" y="538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4840" y="1955880"/>
            <a:ext cx="527040" cy="303120"/>
          </a:xfrm>
          <a:custGeom>
            <a:avLst/>
            <a:gdLst/>
            <a:ahLst/>
            <a:rect l="l" t="t" r="r" b="b"/>
            <a:pathLst>
              <a:path w="1464" h="845">
                <a:moveTo>
                  <a:pt x="571" y="5581"/>
                </a:moveTo>
                <a:cubicBezTo>
                  <a:pt x="755" y="5683"/>
                  <a:pt x="883" y="5793"/>
                  <a:pt x="992" y="5978"/>
                </a:cubicBezTo>
                <a:cubicBezTo>
                  <a:pt x="1000" y="5995"/>
                  <a:pt x="1009" y="6011"/>
                  <a:pt x="1017" y="6028"/>
                </a:cubicBezTo>
              </a:path>
              <a:path w="1464" h="845">
                <a:moveTo>
                  <a:pt x="992" y="5457"/>
                </a:moveTo>
                <a:cubicBezTo>
                  <a:pt x="887" y="5598"/>
                  <a:pt x="852" y="5756"/>
                  <a:pt x="769" y="5904"/>
                </a:cubicBezTo>
                <a:cubicBezTo>
                  <a:pt x="724" y="5948"/>
                  <a:pt x="707" y="5958"/>
                  <a:pt x="719" y="6003"/>
                </a:cubicBezTo>
              </a:path>
              <a:path w="1464" h="845">
                <a:moveTo>
                  <a:pt x="1811" y="5432"/>
                </a:moveTo>
                <a:cubicBezTo>
                  <a:pt x="1811" y="5548"/>
                  <a:pt x="1811" y="5663"/>
                  <a:pt x="1811" y="5779"/>
                </a:cubicBezTo>
              </a:path>
              <a:path w="1464" h="845">
                <a:moveTo>
                  <a:pt x="1637" y="5606"/>
                </a:moveTo>
                <a:cubicBezTo>
                  <a:pt x="1734" y="5578"/>
                  <a:pt x="1842" y="5565"/>
                  <a:pt x="1935" y="5531"/>
                </a:cubicBezTo>
                <a:cubicBezTo>
                  <a:pt x="1983" y="5508"/>
                  <a:pt x="1997" y="5500"/>
                  <a:pt x="2034" y="5507"/>
                </a:cubicBezTo>
              </a:path>
              <a:path w="1464" h="845">
                <a:moveTo>
                  <a:pt x="1439" y="6052"/>
                </a:moveTo>
                <a:cubicBezTo>
                  <a:pt x="1461" y="6137"/>
                  <a:pt x="1461" y="6191"/>
                  <a:pt x="1439" y="62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74880" y="4375080"/>
            <a:ext cx="420480" cy="189000"/>
          </a:xfrm>
          <a:custGeom>
            <a:avLst/>
            <a:gdLst/>
            <a:ahLst/>
            <a:rect l="l" t="t" r="r" b="b"/>
            <a:pathLst>
              <a:path w="1167" h="522">
                <a:moveTo>
                  <a:pt x="5507" y="12229"/>
                </a:moveTo>
                <a:cubicBezTo>
                  <a:pt x="5470" y="12363"/>
                  <a:pt x="5482" y="12507"/>
                  <a:pt x="5482" y="12650"/>
                </a:cubicBezTo>
              </a:path>
              <a:path w="1167" h="522">
                <a:moveTo>
                  <a:pt x="5432" y="12452"/>
                </a:moveTo>
                <a:cubicBezTo>
                  <a:pt x="5523" y="12452"/>
                  <a:pt x="5614" y="12452"/>
                  <a:pt x="5705" y="12452"/>
                </a:cubicBezTo>
              </a:path>
              <a:path w="1167" h="522">
                <a:moveTo>
                  <a:pt x="6003" y="12179"/>
                </a:moveTo>
                <a:cubicBezTo>
                  <a:pt x="6026" y="12349"/>
                  <a:pt x="6045" y="12511"/>
                  <a:pt x="6003" y="12675"/>
                </a:cubicBezTo>
              </a:path>
              <a:path w="1167" h="522">
                <a:moveTo>
                  <a:pt x="6350" y="12154"/>
                </a:moveTo>
                <a:cubicBezTo>
                  <a:pt x="6405" y="12283"/>
                  <a:pt x="6363" y="12434"/>
                  <a:pt x="6350" y="12576"/>
                </a:cubicBezTo>
                <a:cubicBezTo>
                  <a:pt x="6350" y="12593"/>
                  <a:pt x="6350" y="12609"/>
                  <a:pt x="6350" y="12626"/>
                </a:cubicBezTo>
              </a:path>
              <a:path w="1167" h="522">
                <a:moveTo>
                  <a:pt x="5259" y="12502"/>
                </a:moveTo>
                <a:cubicBezTo>
                  <a:pt x="5115" y="12571"/>
                  <a:pt x="5418" y="12526"/>
                  <a:pt x="5457" y="125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25760" y="3884760"/>
            <a:ext cx="179280" cy="115920"/>
          </a:xfrm>
          <a:custGeom>
            <a:avLst/>
            <a:gdLst/>
            <a:ahLst/>
            <a:rect l="l" t="t" r="r" b="b"/>
            <a:pathLst>
              <a:path w="498" h="323">
                <a:moveTo>
                  <a:pt x="4564" y="10889"/>
                </a:moveTo>
                <a:cubicBezTo>
                  <a:pt x="4564" y="10762"/>
                  <a:pt x="4564" y="10982"/>
                  <a:pt x="4564" y="11013"/>
                </a:cubicBezTo>
              </a:path>
              <a:path w="498" h="323">
                <a:moveTo>
                  <a:pt x="4514" y="10939"/>
                </a:moveTo>
                <a:cubicBezTo>
                  <a:pt x="4572" y="10939"/>
                  <a:pt x="4630" y="10939"/>
                  <a:pt x="4688" y="10939"/>
                </a:cubicBezTo>
              </a:path>
              <a:path w="498" h="323">
                <a:moveTo>
                  <a:pt x="4862" y="10790"/>
                </a:moveTo>
                <a:cubicBezTo>
                  <a:pt x="4862" y="10873"/>
                  <a:pt x="4862" y="10955"/>
                  <a:pt x="4862" y="11038"/>
                </a:cubicBezTo>
              </a:path>
              <a:path w="498" h="323">
                <a:moveTo>
                  <a:pt x="5011" y="10790"/>
                </a:moveTo>
                <a:cubicBezTo>
                  <a:pt x="5003" y="10899"/>
                  <a:pt x="4986" y="11001"/>
                  <a:pt x="4986" y="111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71760" y="3463920"/>
            <a:ext cx="241200" cy="162000"/>
          </a:xfrm>
          <a:custGeom>
            <a:avLst/>
            <a:gdLst/>
            <a:ahLst/>
            <a:rect l="l" t="t" r="r" b="b"/>
            <a:pathLst>
              <a:path w="670" h="448">
                <a:moveTo>
                  <a:pt x="4440" y="9773"/>
                </a:moveTo>
                <a:cubicBezTo>
                  <a:pt x="4463" y="9862"/>
                  <a:pt x="4469" y="9886"/>
                  <a:pt x="4440" y="9971"/>
                </a:cubicBezTo>
              </a:path>
              <a:path w="670" h="448">
                <a:moveTo>
                  <a:pt x="4366" y="9872"/>
                </a:moveTo>
                <a:cubicBezTo>
                  <a:pt x="4433" y="9865"/>
                  <a:pt x="4497" y="9854"/>
                  <a:pt x="4564" y="9847"/>
                </a:cubicBezTo>
              </a:path>
              <a:path w="670" h="448">
                <a:moveTo>
                  <a:pt x="4862" y="9624"/>
                </a:moveTo>
                <a:cubicBezTo>
                  <a:pt x="4834" y="9762"/>
                  <a:pt x="4822" y="9904"/>
                  <a:pt x="4812" y="10046"/>
                </a:cubicBezTo>
              </a:path>
              <a:path w="670" h="448">
                <a:moveTo>
                  <a:pt x="5035" y="9624"/>
                </a:moveTo>
                <a:cubicBezTo>
                  <a:pt x="5035" y="9783"/>
                  <a:pt x="5029" y="9918"/>
                  <a:pt x="4986" y="100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52840" y="3456000"/>
            <a:ext cx="214200" cy="179280"/>
          </a:xfrm>
          <a:custGeom>
            <a:avLst/>
            <a:gdLst/>
            <a:ahLst/>
            <a:rect l="l" t="t" r="r" b="b"/>
            <a:pathLst>
              <a:path w="596" h="498">
                <a:moveTo>
                  <a:pt x="7417" y="9674"/>
                </a:moveTo>
                <a:cubicBezTo>
                  <a:pt x="7404" y="9815"/>
                  <a:pt x="7379" y="9955"/>
                  <a:pt x="7367" y="10096"/>
                </a:cubicBezTo>
              </a:path>
              <a:path w="596" h="498">
                <a:moveTo>
                  <a:pt x="7962" y="9599"/>
                </a:moveTo>
                <a:cubicBezTo>
                  <a:pt x="7840" y="9609"/>
                  <a:pt x="7708" y="9630"/>
                  <a:pt x="7615" y="9723"/>
                </a:cubicBezTo>
                <a:cubicBezTo>
                  <a:pt x="7607" y="9740"/>
                  <a:pt x="7598" y="9756"/>
                  <a:pt x="7590" y="9773"/>
                </a:cubicBezTo>
                <a:cubicBezTo>
                  <a:pt x="7660" y="9879"/>
                  <a:pt x="7761" y="9904"/>
                  <a:pt x="7838" y="9996"/>
                </a:cubicBezTo>
                <a:cubicBezTo>
                  <a:pt x="7858" y="10037"/>
                  <a:pt x="7867" y="10043"/>
                  <a:pt x="7863" y="10071"/>
                </a:cubicBezTo>
                <a:cubicBezTo>
                  <a:pt x="7744" y="10099"/>
                  <a:pt x="7684" y="10129"/>
                  <a:pt x="7640" y="10021"/>
                </a:cubicBezTo>
                <a:cubicBezTo>
                  <a:pt x="7593" y="9907"/>
                  <a:pt x="7723" y="9851"/>
                  <a:pt x="7813" y="9798"/>
                </a:cubicBezTo>
                <a:cubicBezTo>
                  <a:pt x="7889" y="9753"/>
                  <a:pt x="7942" y="9663"/>
                  <a:pt x="7863" y="9599"/>
                </a:cubicBezTo>
                <a:cubicBezTo>
                  <a:pt x="7855" y="9599"/>
                  <a:pt x="7846" y="9599"/>
                  <a:pt x="7838" y="95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68800" y="1660680"/>
            <a:ext cx="544320" cy="214200"/>
          </a:xfrm>
          <a:custGeom>
            <a:avLst/>
            <a:gdLst/>
            <a:ahLst/>
            <a:rect l="l" t="t" r="r" b="b"/>
            <a:pathLst>
              <a:path w="1514" h="596">
                <a:moveTo>
                  <a:pt x="9079" y="5209"/>
                </a:moveTo>
                <a:cubicBezTo>
                  <a:pt x="9170" y="5190"/>
                  <a:pt x="9259" y="5168"/>
                  <a:pt x="9351" y="5159"/>
                </a:cubicBezTo>
              </a:path>
              <a:path w="1514" h="596">
                <a:moveTo>
                  <a:pt x="9674" y="4936"/>
                </a:moveTo>
                <a:cubicBezTo>
                  <a:pt x="9631" y="4984"/>
                  <a:pt x="9472" y="5217"/>
                  <a:pt x="9649" y="5209"/>
                </a:cubicBezTo>
                <a:cubicBezTo>
                  <a:pt x="9727" y="5183"/>
                  <a:pt x="9753" y="5171"/>
                  <a:pt x="9773" y="5110"/>
                </a:cubicBezTo>
                <a:cubicBezTo>
                  <a:pt x="9730" y="5002"/>
                  <a:pt x="9732" y="5021"/>
                  <a:pt x="9599" y="5011"/>
                </a:cubicBezTo>
              </a:path>
              <a:path w="1514" h="596">
                <a:moveTo>
                  <a:pt x="9996" y="5060"/>
                </a:moveTo>
                <a:cubicBezTo>
                  <a:pt x="9969" y="4985"/>
                  <a:pt x="9954" y="4931"/>
                  <a:pt x="9971" y="4862"/>
                </a:cubicBezTo>
              </a:path>
              <a:path w="1514" h="596">
                <a:moveTo>
                  <a:pt x="10319" y="4837"/>
                </a:moveTo>
                <a:cubicBezTo>
                  <a:pt x="10413" y="4808"/>
                  <a:pt x="10511" y="4790"/>
                  <a:pt x="10592" y="4738"/>
                </a:cubicBezTo>
              </a:path>
              <a:path w="1514" h="596">
                <a:moveTo>
                  <a:pt x="10418" y="4614"/>
                </a:moveTo>
                <a:lnTo>
                  <a:pt x="10418" y="4614"/>
                </a:lnTo>
              </a:path>
              <a:path w="1514" h="596">
                <a:moveTo>
                  <a:pt x="10592" y="5035"/>
                </a:moveTo>
                <a:lnTo>
                  <a:pt x="10592" y="5035"/>
                </a:lnTo>
              </a:path>
              <a:path w="1514" h="596">
                <a:moveTo>
                  <a:pt x="9922" y="4961"/>
                </a:moveTo>
                <a:cubicBezTo>
                  <a:pt x="9945" y="4878"/>
                  <a:pt x="10003" y="4854"/>
                  <a:pt x="10071" y="4812"/>
                </a:cubicBezTo>
                <a:cubicBezTo>
                  <a:pt x="10079" y="4804"/>
                  <a:pt x="10088" y="4795"/>
                  <a:pt x="10096" y="47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06880" y="3741840"/>
            <a:ext cx="189000" cy="152280"/>
          </a:xfrm>
          <a:custGeom>
            <a:avLst/>
            <a:gdLst/>
            <a:ahLst/>
            <a:rect l="l" t="t" r="r" b="b"/>
            <a:pathLst>
              <a:path w="522" h="423">
                <a:moveTo>
                  <a:pt x="11485" y="10666"/>
                </a:moveTo>
                <a:cubicBezTo>
                  <a:pt x="11358" y="10576"/>
                  <a:pt x="11429" y="10600"/>
                  <a:pt x="11559" y="10616"/>
                </a:cubicBezTo>
              </a:path>
              <a:path w="522" h="423">
                <a:moveTo>
                  <a:pt x="11509" y="10418"/>
                </a:moveTo>
                <a:lnTo>
                  <a:pt x="11509" y="10418"/>
                </a:lnTo>
              </a:path>
              <a:path w="522" h="423">
                <a:moveTo>
                  <a:pt x="11485" y="10815"/>
                </a:moveTo>
                <a:lnTo>
                  <a:pt x="11485" y="10815"/>
                </a:lnTo>
              </a:path>
              <a:path w="522" h="423">
                <a:moveTo>
                  <a:pt x="11708" y="10517"/>
                </a:moveTo>
                <a:cubicBezTo>
                  <a:pt x="11734" y="10593"/>
                  <a:pt x="11749" y="10648"/>
                  <a:pt x="11708" y="10716"/>
                </a:cubicBezTo>
                <a:cubicBezTo>
                  <a:pt x="11772" y="10693"/>
                  <a:pt x="11817" y="10674"/>
                  <a:pt x="11881" y="10666"/>
                </a:cubicBezTo>
              </a:path>
              <a:path w="522" h="423">
                <a:moveTo>
                  <a:pt x="11931" y="10393"/>
                </a:moveTo>
                <a:cubicBezTo>
                  <a:pt x="11905" y="10537"/>
                  <a:pt x="11918" y="10646"/>
                  <a:pt x="11931" y="107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60880" y="3348000"/>
            <a:ext cx="223920" cy="144360"/>
          </a:xfrm>
          <a:custGeom>
            <a:avLst/>
            <a:gdLst/>
            <a:ahLst/>
            <a:rect l="l" t="t" r="r" b="b"/>
            <a:pathLst>
              <a:path w="621" h="398">
                <a:moveTo>
                  <a:pt x="11559" y="9525"/>
                </a:moveTo>
                <a:cubicBezTo>
                  <a:pt x="11634" y="9520"/>
                  <a:pt x="11685" y="9512"/>
                  <a:pt x="11757" y="9500"/>
                </a:cubicBezTo>
              </a:path>
              <a:path w="621" h="398">
                <a:moveTo>
                  <a:pt x="11733" y="9302"/>
                </a:moveTo>
                <a:lnTo>
                  <a:pt x="11733" y="9302"/>
                </a:lnTo>
              </a:path>
              <a:path w="621" h="398">
                <a:moveTo>
                  <a:pt x="11708" y="9699"/>
                </a:moveTo>
                <a:lnTo>
                  <a:pt x="11708" y="9699"/>
                </a:lnTo>
              </a:path>
              <a:path w="621" h="398">
                <a:moveTo>
                  <a:pt x="11906" y="9426"/>
                </a:moveTo>
                <a:cubicBezTo>
                  <a:pt x="11938" y="9439"/>
                  <a:pt x="11993" y="9561"/>
                  <a:pt x="12030" y="9550"/>
                </a:cubicBezTo>
                <a:cubicBezTo>
                  <a:pt x="12099" y="9504"/>
                  <a:pt x="12119" y="9492"/>
                  <a:pt x="12154" y="9451"/>
                </a:cubicBezTo>
              </a:path>
              <a:path w="621" h="398">
                <a:moveTo>
                  <a:pt x="12129" y="9302"/>
                </a:moveTo>
                <a:cubicBezTo>
                  <a:pt x="12143" y="9411"/>
                  <a:pt x="12151" y="9522"/>
                  <a:pt x="12179" y="96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70240" y="3009960"/>
            <a:ext cx="204840" cy="152280"/>
          </a:xfrm>
          <a:custGeom>
            <a:avLst/>
            <a:gdLst/>
            <a:ahLst/>
            <a:rect l="l" t="t" r="r" b="b"/>
            <a:pathLst>
              <a:path w="571" h="423">
                <a:moveTo>
                  <a:pt x="11584" y="8632"/>
                </a:moveTo>
                <a:cubicBezTo>
                  <a:pt x="11667" y="8581"/>
                  <a:pt x="11702" y="8582"/>
                  <a:pt x="11807" y="8582"/>
                </a:cubicBezTo>
              </a:path>
              <a:path w="571" h="423">
                <a:moveTo>
                  <a:pt x="11708" y="8434"/>
                </a:moveTo>
                <a:lnTo>
                  <a:pt x="11708" y="8434"/>
                </a:lnTo>
              </a:path>
              <a:path w="571" h="423">
                <a:moveTo>
                  <a:pt x="11733" y="8781"/>
                </a:moveTo>
                <a:lnTo>
                  <a:pt x="11733" y="8781"/>
                </a:lnTo>
              </a:path>
              <a:path w="571" h="423">
                <a:moveTo>
                  <a:pt x="11956" y="8483"/>
                </a:moveTo>
                <a:cubicBezTo>
                  <a:pt x="11983" y="8592"/>
                  <a:pt x="11947" y="8582"/>
                  <a:pt x="12080" y="8582"/>
                </a:cubicBezTo>
              </a:path>
              <a:path w="571" h="423">
                <a:moveTo>
                  <a:pt x="12154" y="8359"/>
                </a:moveTo>
                <a:cubicBezTo>
                  <a:pt x="12122" y="8485"/>
                  <a:pt x="12119" y="8606"/>
                  <a:pt x="12154" y="87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41880" y="2616120"/>
            <a:ext cx="214200" cy="196920"/>
          </a:xfrm>
          <a:custGeom>
            <a:avLst/>
            <a:gdLst/>
            <a:ahLst/>
            <a:rect l="l" t="t" r="r" b="b"/>
            <a:pathLst>
              <a:path w="597" h="546">
                <a:moveTo>
                  <a:pt x="11881" y="7565"/>
                </a:moveTo>
                <a:cubicBezTo>
                  <a:pt x="11833" y="7542"/>
                  <a:pt x="11819" y="7534"/>
                  <a:pt x="11782" y="7541"/>
                </a:cubicBezTo>
                <a:cubicBezTo>
                  <a:pt x="11876" y="7556"/>
                  <a:pt x="11892" y="7555"/>
                  <a:pt x="11981" y="7516"/>
                </a:cubicBezTo>
              </a:path>
              <a:path w="597" h="546">
                <a:moveTo>
                  <a:pt x="11881" y="7417"/>
                </a:moveTo>
                <a:lnTo>
                  <a:pt x="11881" y="7417"/>
                </a:lnTo>
              </a:path>
              <a:path w="597" h="546">
                <a:moveTo>
                  <a:pt x="11906" y="7813"/>
                </a:moveTo>
                <a:lnTo>
                  <a:pt x="11906" y="7813"/>
                </a:lnTo>
              </a:path>
              <a:path w="597" h="546">
                <a:moveTo>
                  <a:pt x="12204" y="7441"/>
                </a:moveTo>
                <a:cubicBezTo>
                  <a:pt x="12204" y="7400"/>
                  <a:pt x="12204" y="7392"/>
                  <a:pt x="12204" y="7367"/>
                </a:cubicBezTo>
                <a:cubicBezTo>
                  <a:pt x="12187" y="7455"/>
                  <a:pt x="12179" y="7525"/>
                  <a:pt x="12179" y="7615"/>
                </a:cubicBezTo>
                <a:cubicBezTo>
                  <a:pt x="12238" y="7578"/>
                  <a:pt x="12291" y="7547"/>
                  <a:pt x="12353" y="7516"/>
                </a:cubicBezTo>
              </a:path>
              <a:path w="597" h="546">
                <a:moveTo>
                  <a:pt x="12353" y="7268"/>
                </a:moveTo>
                <a:cubicBezTo>
                  <a:pt x="12372" y="7437"/>
                  <a:pt x="12378" y="7594"/>
                  <a:pt x="12378" y="77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27280" y="3705120"/>
            <a:ext cx="295560" cy="216000"/>
          </a:xfrm>
          <a:custGeom>
            <a:avLst/>
            <a:gdLst/>
            <a:ahLst/>
            <a:rect l="l" t="t" r="r" b="b"/>
            <a:pathLst>
              <a:path w="819" h="596">
                <a:moveTo>
                  <a:pt x="9897" y="10393"/>
                </a:moveTo>
                <a:cubicBezTo>
                  <a:pt x="9965" y="10362"/>
                  <a:pt x="10184" y="10271"/>
                  <a:pt x="10145" y="10443"/>
                </a:cubicBezTo>
                <a:cubicBezTo>
                  <a:pt x="10094" y="10546"/>
                  <a:pt x="10074" y="10582"/>
                  <a:pt x="9996" y="10616"/>
                </a:cubicBezTo>
                <a:cubicBezTo>
                  <a:pt x="10047" y="10558"/>
                  <a:pt x="10212" y="10514"/>
                  <a:pt x="10170" y="10666"/>
                </a:cubicBezTo>
                <a:cubicBezTo>
                  <a:pt x="10110" y="10883"/>
                  <a:pt x="9941" y="10896"/>
                  <a:pt x="9798" y="10815"/>
                </a:cubicBezTo>
              </a:path>
              <a:path w="819" h="596">
                <a:moveTo>
                  <a:pt x="10319" y="10294"/>
                </a:moveTo>
                <a:cubicBezTo>
                  <a:pt x="10349" y="10412"/>
                  <a:pt x="10325" y="10522"/>
                  <a:pt x="10344" y="10641"/>
                </a:cubicBezTo>
                <a:cubicBezTo>
                  <a:pt x="10359" y="10739"/>
                  <a:pt x="10410" y="10826"/>
                  <a:pt x="10517" y="10765"/>
                </a:cubicBezTo>
                <a:cubicBezTo>
                  <a:pt x="10604" y="10716"/>
                  <a:pt x="10608" y="10602"/>
                  <a:pt x="10616" y="10517"/>
                </a:cubicBezTo>
                <a:cubicBezTo>
                  <a:pt x="10483" y="10457"/>
                  <a:pt x="10414" y="10502"/>
                  <a:pt x="10368" y="10666"/>
                </a:cubicBezTo>
                <a:cubicBezTo>
                  <a:pt x="10368" y="10691"/>
                  <a:pt x="10368" y="10715"/>
                  <a:pt x="10368" y="107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30800" y="4357800"/>
            <a:ext cx="277560" cy="196560"/>
          </a:xfrm>
          <a:custGeom>
            <a:avLst/>
            <a:gdLst/>
            <a:ahLst/>
            <a:rect l="l" t="t" r="r" b="b"/>
            <a:pathLst>
              <a:path w="770" h="546">
                <a:moveTo>
                  <a:pt x="12030" y="12576"/>
                </a:moveTo>
                <a:cubicBezTo>
                  <a:pt x="12144" y="12519"/>
                  <a:pt x="12206" y="12508"/>
                  <a:pt x="12328" y="12477"/>
                </a:cubicBezTo>
              </a:path>
              <a:path w="770" h="546">
                <a:moveTo>
                  <a:pt x="12204" y="12278"/>
                </a:moveTo>
                <a:lnTo>
                  <a:pt x="12204" y="12278"/>
                </a:lnTo>
              </a:path>
              <a:path w="770" h="546">
                <a:moveTo>
                  <a:pt x="12303" y="12626"/>
                </a:moveTo>
                <a:lnTo>
                  <a:pt x="12303" y="12626"/>
                </a:lnTo>
              </a:path>
              <a:path w="770" h="546">
                <a:moveTo>
                  <a:pt x="12576" y="12254"/>
                </a:moveTo>
                <a:cubicBezTo>
                  <a:pt x="12576" y="12337"/>
                  <a:pt x="12580" y="12401"/>
                  <a:pt x="12551" y="12477"/>
                </a:cubicBezTo>
                <a:cubicBezTo>
                  <a:pt x="12628" y="12447"/>
                  <a:pt x="12700" y="12415"/>
                  <a:pt x="12774" y="12378"/>
                </a:cubicBezTo>
              </a:path>
              <a:path w="770" h="546">
                <a:moveTo>
                  <a:pt x="12774" y="12105"/>
                </a:moveTo>
                <a:cubicBezTo>
                  <a:pt x="12741" y="12297"/>
                  <a:pt x="12759" y="12459"/>
                  <a:pt x="12799" y="126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80160" y="1500120"/>
            <a:ext cx="123840" cy="27000"/>
          </a:xfrm>
          <a:custGeom>
            <a:avLst/>
            <a:gdLst/>
            <a:ahLst/>
            <a:rect l="l" t="t" r="r" b="b"/>
            <a:pathLst>
              <a:path w="348" h="76">
                <a:moveTo>
                  <a:pt x="18554" y="4242"/>
                </a:moveTo>
                <a:cubicBezTo>
                  <a:pt x="18675" y="4209"/>
                  <a:pt x="18778" y="4178"/>
                  <a:pt x="18901" y="41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73920" y="1446120"/>
            <a:ext cx="223920" cy="108000"/>
          </a:xfrm>
          <a:custGeom>
            <a:avLst/>
            <a:gdLst/>
            <a:ahLst/>
            <a:rect l="l" t="t" r="r" b="b"/>
            <a:pathLst>
              <a:path w="622" h="299">
                <a:moveTo>
                  <a:pt x="19472" y="4068"/>
                </a:moveTo>
                <a:cubicBezTo>
                  <a:pt x="19426" y="4131"/>
                  <a:pt x="19400" y="4193"/>
                  <a:pt x="19372" y="4266"/>
                </a:cubicBezTo>
                <a:cubicBezTo>
                  <a:pt x="19406" y="4275"/>
                  <a:pt x="19732" y="4276"/>
                  <a:pt x="19596" y="4142"/>
                </a:cubicBezTo>
                <a:cubicBezTo>
                  <a:pt x="19529" y="4120"/>
                  <a:pt x="19511" y="4116"/>
                  <a:pt x="19472" y="4093"/>
                </a:cubicBezTo>
              </a:path>
              <a:path w="622" h="299">
                <a:moveTo>
                  <a:pt x="19695" y="4093"/>
                </a:moveTo>
                <a:cubicBezTo>
                  <a:pt x="19780" y="4156"/>
                  <a:pt x="19800" y="4169"/>
                  <a:pt x="19844" y="4217"/>
                </a:cubicBezTo>
                <a:cubicBezTo>
                  <a:pt x="19807" y="4120"/>
                  <a:pt x="19831" y="4061"/>
                  <a:pt x="19943" y="4018"/>
                </a:cubicBezTo>
                <a:cubicBezTo>
                  <a:pt x="19960" y="4018"/>
                  <a:pt x="19976" y="4018"/>
                  <a:pt x="19993" y="40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23120" y="1374840"/>
            <a:ext cx="106560" cy="169920"/>
          </a:xfrm>
          <a:custGeom>
            <a:avLst/>
            <a:gdLst/>
            <a:ahLst/>
            <a:rect l="l" t="t" r="r" b="b"/>
            <a:pathLst>
              <a:path w="299" h="472">
                <a:moveTo>
                  <a:pt x="20340" y="4043"/>
                </a:moveTo>
                <a:cubicBezTo>
                  <a:pt x="20442" y="4043"/>
                  <a:pt x="20551" y="4055"/>
                  <a:pt x="20638" y="4018"/>
                </a:cubicBezTo>
              </a:path>
              <a:path w="299" h="472">
                <a:moveTo>
                  <a:pt x="20464" y="3820"/>
                </a:moveTo>
                <a:lnTo>
                  <a:pt x="20464" y="3820"/>
                </a:lnTo>
              </a:path>
              <a:path w="299" h="472">
                <a:moveTo>
                  <a:pt x="20563" y="4291"/>
                </a:moveTo>
                <a:lnTo>
                  <a:pt x="20563" y="429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2295360"/>
            <a:ext cx="223560" cy="142920"/>
          </a:xfrm>
          <a:custGeom>
            <a:avLst/>
            <a:gdLst/>
            <a:ahLst/>
            <a:rect l="l" t="t" r="r" b="b"/>
            <a:pathLst>
              <a:path w="621" h="398">
                <a:moveTo>
                  <a:pt x="18628" y="6623"/>
                </a:moveTo>
                <a:cubicBezTo>
                  <a:pt x="18645" y="6615"/>
                  <a:pt x="18661" y="6606"/>
                  <a:pt x="18678" y="6598"/>
                </a:cubicBezTo>
              </a:path>
              <a:path w="621" h="398">
                <a:moveTo>
                  <a:pt x="19248" y="6474"/>
                </a:moveTo>
                <a:cubicBezTo>
                  <a:pt x="19152" y="6418"/>
                  <a:pt x="19135" y="6395"/>
                  <a:pt x="19025" y="6400"/>
                </a:cubicBezTo>
                <a:cubicBezTo>
                  <a:pt x="18948" y="6404"/>
                  <a:pt x="18956" y="6490"/>
                  <a:pt x="18976" y="6548"/>
                </a:cubicBezTo>
                <a:cubicBezTo>
                  <a:pt x="19061" y="6577"/>
                  <a:pt x="19085" y="6571"/>
                  <a:pt x="19174" y="6548"/>
                </a:cubicBezTo>
              </a:path>
              <a:path w="621" h="398">
                <a:moveTo>
                  <a:pt x="19174" y="6400"/>
                </a:moveTo>
                <a:cubicBezTo>
                  <a:pt x="19174" y="6511"/>
                  <a:pt x="19187" y="6613"/>
                  <a:pt x="19199" y="6722"/>
                </a:cubicBezTo>
                <a:cubicBezTo>
                  <a:pt x="19199" y="6739"/>
                  <a:pt x="19199" y="6755"/>
                  <a:pt x="19199" y="67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42080" y="2660760"/>
            <a:ext cx="204840" cy="135000"/>
          </a:xfrm>
          <a:custGeom>
            <a:avLst/>
            <a:gdLst/>
            <a:ahLst/>
            <a:rect l="l" t="t" r="r" b="b"/>
            <a:pathLst>
              <a:path w="571" h="373">
                <a:moveTo>
                  <a:pt x="18728" y="7689"/>
                </a:moveTo>
                <a:cubicBezTo>
                  <a:pt x="18785" y="7657"/>
                  <a:pt x="18835" y="7647"/>
                  <a:pt x="18901" y="7640"/>
                </a:cubicBezTo>
              </a:path>
              <a:path w="571" h="373">
                <a:moveTo>
                  <a:pt x="19273" y="7516"/>
                </a:moveTo>
                <a:cubicBezTo>
                  <a:pt x="19273" y="7472"/>
                  <a:pt x="19221" y="7344"/>
                  <a:pt x="19124" y="7392"/>
                </a:cubicBezTo>
                <a:cubicBezTo>
                  <a:pt x="19036" y="7435"/>
                  <a:pt x="19037" y="7537"/>
                  <a:pt x="19025" y="7615"/>
                </a:cubicBezTo>
                <a:cubicBezTo>
                  <a:pt x="19141" y="7631"/>
                  <a:pt x="19162" y="7627"/>
                  <a:pt x="19273" y="7590"/>
                </a:cubicBezTo>
              </a:path>
              <a:path w="571" h="373">
                <a:moveTo>
                  <a:pt x="19248" y="7417"/>
                </a:moveTo>
                <a:cubicBezTo>
                  <a:pt x="19248" y="7533"/>
                  <a:pt x="19248" y="7648"/>
                  <a:pt x="19248" y="77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42080" y="3036960"/>
            <a:ext cx="241200" cy="187200"/>
          </a:xfrm>
          <a:custGeom>
            <a:avLst/>
            <a:gdLst/>
            <a:ahLst/>
            <a:rect l="l" t="t" r="r" b="b"/>
            <a:pathLst>
              <a:path w="670" h="521">
                <a:moveTo>
                  <a:pt x="18728" y="8607"/>
                </a:moveTo>
                <a:cubicBezTo>
                  <a:pt x="18812" y="8627"/>
                  <a:pt x="18826" y="8632"/>
                  <a:pt x="18901" y="8632"/>
                </a:cubicBezTo>
              </a:path>
              <a:path w="670" h="521">
                <a:moveTo>
                  <a:pt x="19348" y="8508"/>
                </a:moveTo>
                <a:cubicBezTo>
                  <a:pt x="19288" y="8368"/>
                  <a:pt x="19182" y="8458"/>
                  <a:pt x="19124" y="8582"/>
                </a:cubicBezTo>
                <a:cubicBezTo>
                  <a:pt x="19006" y="8834"/>
                  <a:pt x="19304" y="8611"/>
                  <a:pt x="19348" y="8582"/>
                </a:cubicBezTo>
                <a:cubicBezTo>
                  <a:pt x="19472" y="8332"/>
                  <a:pt x="19372" y="8855"/>
                  <a:pt x="19372" y="8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3384720"/>
            <a:ext cx="233280" cy="152280"/>
          </a:xfrm>
          <a:custGeom>
            <a:avLst/>
            <a:gdLst/>
            <a:ahLst/>
            <a:rect l="l" t="t" r="r" b="b"/>
            <a:pathLst>
              <a:path w="646" h="423">
                <a:moveTo>
                  <a:pt x="18628" y="9624"/>
                </a:moveTo>
                <a:cubicBezTo>
                  <a:pt x="18697" y="9618"/>
                  <a:pt x="18759" y="9607"/>
                  <a:pt x="18827" y="9599"/>
                </a:cubicBezTo>
              </a:path>
              <a:path w="646" h="423">
                <a:moveTo>
                  <a:pt x="19273" y="9475"/>
                </a:moveTo>
                <a:cubicBezTo>
                  <a:pt x="19178" y="9420"/>
                  <a:pt x="19119" y="9357"/>
                  <a:pt x="19075" y="9451"/>
                </a:cubicBezTo>
                <a:cubicBezTo>
                  <a:pt x="19027" y="9546"/>
                  <a:pt x="19010" y="9575"/>
                  <a:pt x="19025" y="9649"/>
                </a:cubicBezTo>
                <a:cubicBezTo>
                  <a:pt x="19143" y="9667"/>
                  <a:pt x="19165" y="9658"/>
                  <a:pt x="19273" y="9599"/>
                </a:cubicBezTo>
              </a:path>
              <a:path w="646" h="423">
                <a:moveTo>
                  <a:pt x="19273" y="9475"/>
                </a:moveTo>
                <a:cubicBezTo>
                  <a:pt x="19273" y="9591"/>
                  <a:pt x="19273" y="9707"/>
                  <a:pt x="19273" y="98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45200" y="4330800"/>
            <a:ext cx="447840" cy="233280"/>
          </a:xfrm>
          <a:custGeom>
            <a:avLst/>
            <a:gdLst/>
            <a:ahLst/>
            <a:rect l="l" t="t" r="r" b="b"/>
            <a:pathLst>
              <a:path w="1241" h="646">
                <a:moveTo>
                  <a:pt x="19571" y="12402"/>
                </a:moveTo>
                <a:cubicBezTo>
                  <a:pt x="19692" y="12431"/>
                  <a:pt x="19794" y="12446"/>
                  <a:pt x="19918" y="12452"/>
                </a:cubicBezTo>
              </a:path>
              <a:path w="1241" h="646">
                <a:moveTo>
                  <a:pt x="20811" y="12154"/>
                </a:moveTo>
                <a:cubicBezTo>
                  <a:pt x="20708" y="12081"/>
                  <a:pt x="20595" y="12019"/>
                  <a:pt x="20464" y="12030"/>
                </a:cubicBezTo>
                <a:cubicBezTo>
                  <a:pt x="20324" y="12041"/>
                  <a:pt x="20147" y="12101"/>
                  <a:pt x="20166" y="12278"/>
                </a:cubicBezTo>
                <a:cubicBezTo>
                  <a:pt x="20195" y="12551"/>
                  <a:pt x="20482" y="12368"/>
                  <a:pt x="20588" y="12303"/>
                </a:cubicBezTo>
              </a:path>
              <a:path w="1241" h="646">
                <a:moveTo>
                  <a:pt x="20687" y="12129"/>
                </a:moveTo>
                <a:cubicBezTo>
                  <a:pt x="20687" y="12305"/>
                  <a:pt x="20705" y="12475"/>
                  <a:pt x="20712" y="12650"/>
                </a:cubicBezTo>
                <a:cubicBezTo>
                  <a:pt x="20712" y="12658"/>
                  <a:pt x="20712" y="12667"/>
                  <a:pt x="20712" y="126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96160" y="2268360"/>
            <a:ext cx="196920" cy="187560"/>
          </a:xfrm>
          <a:custGeom>
            <a:avLst/>
            <a:gdLst/>
            <a:ahLst/>
            <a:rect l="l" t="t" r="r" b="b"/>
            <a:pathLst>
              <a:path w="547" h="522">
                <a:moveTo>
                  <a:pt x="21679" y="6375"/>
                </a:moveTo>
                <a:cubicBezTo>
                  <a:pt x="21668" y="6397"/>
                  <a:pt x="21654" y="6612"/>
                  <a:pt x="21654" y="6722"/>
                </a:cubicBezTo>
              </a:path>
              <a:path w="547" h="522">
                <a:moveTo>
                  <a:pt x="22200" y="6300"/>
                </a:moveTo>
                <a:cubicBezTo>
                  <a:pt x="22083" y="6330"/>
                  <a:pt x="22015" y="6371"/>
                  <a:pt x="21927" y="6449"/>
                </a:cubicBezTo>
                <a:cubicBezTo>
                  <a:pt x="21951" y="6570"/>
                  <a:pt x="22072" y="6541"/>
                  <a:pt x="22126" y="6648"/>
                </a:cubicBezTo>
                <a:cubicBezTo>
                  <a:pt x="22196" y="6787"/>
                  <a:pt x="22037" y="6814"/>
                  <a:pt x="21952" y="6821"/>
                </a:cubicBezTo>
                <a:cubicBezTo>
                  <a:pt x="21952" y="6650"/>
                  <a:pt x="22006" y="6607"/>
                  <a:pt x="22101" y="6474"/>
                </a:cubicBezTo>
                <a:cubicBezTo>
                  <a:pt x="22109" y="6457"/>
                  <a:pt x="22118" y="6441"/>
                  <a:pt x="22126" y="64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96160" y="3000240"/>
            <a:ext cx="223920" cy="152640"/>
          </a:xfrm>
          <a:custGeom>
            <a:avLst/>
            <a:gdLst/>
            <a:ahLst/>
            <a:rect l="l" t="t" r="r" b="b"/>
            <a:pathLst>
              <a:path w="622" h="423">
                <a:moveTo>
                  <a:pt x="21654" y="8359"/>
                </a:moveTo>
                <a:cubicBezTo>
                  <a:pt x="21727" y="8341"/>
                  <a:pt x="21778" y="8334"/>
                  <a:pt x="21853" y="8334"/>
                </a:cubicBezTo>
                <a:cubicBezTo>
                  <a:pt x="21837" y="8511"/>
                  <a:pt x="21773" y="8579"/>
                  <a:pt x="21654" y="8706"/>
                </a:cubicBezTo>
                <a:cubicBezTo>
                  <a:pt x="21772" y="8718"/>
                  <a:pt x="21791" y="8722"/>
                  <a:pt x="21903" y="8706"/>
                </a:cubicBezTo>
              </a:path>
              <a:path w="622" h="423">
                <a:moveTo>
                  <a:pt x="22275" y="8359"/>
                </a:moveTo>
                <a:cubicBezTo>
                  <a:pt x="22146" y="8343"/>
                  <a:pt x="22132" y="8335"/>
                  <a:pt x="22027" y="8409"/>
                </a:cubicBezTo>
                <a:cubicBezTo>
                  <a:pt x="22060" y="8475"/>
                  <a:pt x="22221" y="8590"/>
                  <a:pt x="22200" y="8682"/>
                </a:cubicBezTo>
                <a:cubicBezTo>
                  <a:pt x="22184" y="8707"/>
                  <a:pt x="22167" y="8731"/>
                  <a:pt x="22151" y="8756"/>
                </a:cubicBezTo>
                <a:cubicBezTo>
                  <a:pt x="22041" y="8665"/>
                  <a:pt x="22142" y="8560"/>
                  <a:pt x="22225" y="8434"/>
                </a:cubicBezTo>
                <a:cubicBezTo>
                  <a:pt x="22263" y="8377"/>
                  <a:pt x="22280" y="8374"/>
                  <a:pt x="22275" y="83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98760" y="2786040"/>
            <a:ext cx="17280" cy="125280"/>
          </a:xfrm>
          <a:custGeom>
            <a:avLst/>
            <a:gdLst/>
            <a:ahLst/>
            <a:rect l="l" t="t" r="r" b="b"/>
            <a:pathLst>
              <a:path w="51" h="348">
                <a:moveTo>
                  <a:pt x="4490" y="7739"/>
                </a:moveTo>
                <a:cubicBezTo>
                  <a:pt x="4481" y="7849"/>
                  <a:pt x="4474" y="7981"/>
                  <a:pt x="4440" y="8086"/>
                </a:cubicBezTo>
                <a:cubicBezTo>
                  <a:pt x="4440" y="8078"/>
                  <a:pt x="4440" y="8070"/>
                  <a:pt x="4440" y="80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62040" y="2830680"/>
            <a:ext cx="90720" cy="9360"/>
          </a:xfrm>
          <a:custGeom>
            <a:avLst/>
            <a:gdLst/>
            <a:ahLst/>
            <a:rect l="l" t="t" r="r" b="b"/>
            <a:pathLst>
              <a:path w="249" h="26">
                <a:moveTo>
                  <a:pt x="4341" y="7888"/>
                </a:moveTo>
                <a:cubicBezTo>
                  <a:pt x="4428" y="7882"/>
                  <a:pt x="4503" y="7870"/>
                  <a:pt x="4589" y="78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24040" y="2751120"/>
            <a:ext cx="17280" cy="133200"/>
          </a:xfrm>
          <a:custGeom>
            <a:avLst/>
            <a:gdLst/>
            <a:ahLst/>
            <a:rect l="l" t="t" r="r" b="b"/>
            <a:pathLst>
              <a:path w="51" h="373">
                <a:moveTo>
                  <a:pt x="4837" y="7640"/>
                </a:moveTo>
                <a:cubicBezTo>
                  <a:pt x="4837" y="7777"/>
                  <a:pt x="4834" y="7884"/>
                  <a:pt x="4787" y="80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85960" y="2751120"/>
            <a:ext cx="9360" cy="123840"/>
          </a:xfrm>
          <a:custGeom>
            <a:avLst/>
            <a:gdLst/>
            <a:ahLst/>
            <a:rect l="l" t="t" r="r" b="b"/>
            <a:pathLst>
              <a:path w="26" h="348">
                <a:moveTo>
                  <a:pt x="4986" y="7640"/>
                </a:moveTo>
                <a:cubicBezTo>
                  <a:pt x="4980" y="7769"/>
                  <a:pt x="4971" y="7868"/>
                  <a:pt x="4986" y="79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81120" y="3160800"/>
            <a:ext cx="7920" cy="81000"/>
          </a:xfrm>
          <a:custGeom>
            <a:avLst/>
            <a:gdLst/>
            <a:ahLst/>
            <a:rect l="l" t="t" r="r" b="b"/>
            <a:pathLst>
              <a:path w="26" h="224">
                <a:moveTo>
                  <a:pt x="4415" y="8781"/>
                </a:moveTo>
                <a:cubicBezTo>
                  <a:pt x="4397" y="8860"/>
                  <a:pt x="4390" y="8922"/>
                  <a:pt x="4390" y="90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44760" y="3197160"/>
            <a:ext cx="90360" cy="27000"/>
          </a:xfrm>
          <a:custGeom>
            <a:avLst/>
            <a:gdLst/>
            <a:ahLst/>
            <a:rect l="l" t="t" r="r" b="b"/>
            <a:pathLst>
              <a:path w="249" h="75">
                <a:moveTo>
                  <a:pt x="4291" y="8954"/>
                </a:moveTo>
                <a:cubicBezTo>
                  <a:pt x="4381" y="8921"/>
                  <a:pt x="4446" y="8893"/>
                  <a:pt x="4539" y="88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04960" y="3152880"/>
            <a:ext cx="1440" cy="106200"/>
          </a:xfrm>
          <a:custGeom>
            <a:avLst/>
            <a:gdLst/>
            <a:ahLst/>
            <a:rect l="l" t="t" r="r" b="b"/>
            <a:pathLst>
              <a:path w="1" h="299">
                <a:moveTo>
                  <a:pt x="4738" y="8756"/>
                </a:moveTo>
                <a:cubicBezTo>
                  <a:pt x="4738" y="8855"/>
                  <a:pt x="4738" y="8955"/>
                  <a:pt x="4738" y="90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85960" y="3125880"/>
            <a:ext cx="9360" cy="98280"/>
          </a:xfrm>
          <a:custGeom>
            <a:avLst/>
            <a:gdLst/>
            <a:ahLst/>
            <a:rect l="l" t="t" r="r" b="b"/>
            <a:pathLst>
              <a:path w="26" h="273">
                <a:moveTo>
                  <a:pt x="4986" y="8682"/>
                </a:moveTo>
                <a:cubicBezTo>
                  <a:pt x="4986" y="8776"/>
                  <a:pt x="5001" y="8876"/>
                  <a:pt x="4961" y="8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001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ive :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o interpret and write a rule for a one-operation function t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be0e3"/>
                </a:solidFill>
                <a:latin typeface="Times New Roman"/>
              </a:rPr>
              <a:t>Skill Practice:  </a:t>
            </a:r>
            <a:r>
              <a:rPr b="1" lang="en-US" sz="2200" spc="-1" strike="noStrike">
                <a:solidFill>
                  <a:srgbClr val="ff6600"/>
                </a:solidFill>
                <a:latin typeface="Times New Roman"/>
              </a:rPr>
              <a:t>Find the </a:t>
            </a:r>
            <a:r>
              <a:rPr b="1" lang="en-US" sz="2200" spc="-1" strike="noStrike">
                <a:solidFill>
                  <a:srgbClr val="009999"/>
                </a:solidFill>
                <a:latin typeface="Times New Roman"/>
              </a:rPr>
              <a:t>missing inputs</a:t>
            </a:r>
            <a:r>
              <a:rPr b="1" lang="en-US" sz="2200" spc="-1" strike="noStrike">
                <a:solidFill>
                  <a:srgbClr val="ff6600"/>
                </a:solidFill>
                <a:latin typeface="Times New Roman"/>
              </a:rPr>
              <a:t> and outputs, as well as </a:t>
            </a:r>
            <a:r>
              <a:rPr b="1" lang="en-US" sz="2200" spc="-1" strike="noStrike">
                <a:solidFill>
                  <a:srgbClr val="009999"/>
                </a:solidFill>
                <a:latin typeface="Times New Roman"/>
              </a:rPr>
              <a:t>the rule</a:t>
            </a:r>
            <a:r>
              <a:rPr b="1" lang="en-US" sz="2200" spc="-1" strike="noStrike">
                <a:solidFill>
                  <a:srgbClr val="ff6600"/>
                </a:solidFill>
                <a:latin typeface="Times New Roman"/>
              </a:rPr>
              <a:t> for each function tab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Times New Roman"/>
              </a:rPr>
              <a:t>     </a:t>
            </a:r>
            <a:r>
              <a:rPr b="1" lang="en-US" sz="2200" spc="-1" strike="noStrike">
                <a:solidFill>
                  <a:srgbClr val="ff6600"/>
                </a:solidFill>
                <a:latin typeface="Times New Roman"/>
              </a:rPr>
              <a:t>Rule is:____      </a:t>
            </a:r>
            <a:r>
              <a:rPr b="1" lang="en-US" sz="22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6600"/>
                </a:solidFill>
                <a:latin typeface="Times New Roman"/>
              </a:rPr>
              <a:t>Rule is:____      </a:t>
            </a:r>
            <a:r>
              <a:rPr b="1" lang="en-US" sz="22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6600"/>
                </a:solidFill>
                <a:latin typeface="Times New Roman"/>
              </a:rPr>
              <a:t>Rule is:___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1447920"/>
          <a:ext cx="2057400" cy="20206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46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505320" y="1371600"/>
          <a:ext cx="2057400" cy="203364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47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6019920" y="1371600"/>
          <a:ext cx="2057400" cy="20350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6108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ive :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o interpret and write a rule for a one-operation function t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Challenge:</a:t>
            </a: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99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Use the same strategy to solve these more challenging function tables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Rule is:____      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            Rule is: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828800" y="2819520"/>
          <a:ext cx="2057400" cy="22096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4952880" y="2819520"/>
          <a:ext cx="2057400" cy="22096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heet – pick any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e quiz with fam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22:31:50Z</dcterms:created>
  <dc:creator>Brian McGrath</dc:creator>
  <dc:description/>
  <dc:language>en-US</dc:language>
  <cp:lastModifiedBy>deanne elizabeth mcgrath</cp:lastModifiedBy>
  <cp:lastPrinted>2010-09-12T22:48:06Z</cp:lastPrinted>
  <dcterms:modified xsi:type="dcterms:W3CDTF">2010-09-13T18:05:46Z</dcterms:modified>
  <cp:revision>3</cp:revision>
  <dc:subject/>
  <dc:title>PowerPoint Presentation</dc:title>
</cp:coreProperties>
</file>